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EE1D-AB5B-4F59-AC9F-C94D3C5A5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3EC9-C731-4D1B-AC41-AF32A17F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E6EC-05A4-4EC5-BC6C-E831DF322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92E3-E86F-4A16-9877-F5DFBA3E4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584D-D4BE-4D27-BAA1-3C4706AC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6EDE-3E0D-4829-9988-C3ECA700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023B-2984-4E48-B2F9-59891A90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DEBF-AC91-49D1-A49E-DABFBC76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C91D-09B2-4E4D-B4BC-47E0B893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A04D-D14F-47FC-9652-7B52E8B1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6F35-D44F-49AA-ACBC-C4BE6BEC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AAAA-3E3E-4C90-BE7D-9F4DB94A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4774-6C06-4710-A9A2-369DAF0641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аз на недел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763640" y="2133720"/>
          <a:ext cx="5329440" cy="33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133720"/>
                    <a:ext cx="5329440" cy="33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бор позиций зака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062000" y="1981080"/>
          <a:ext cx="70182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1981080"/>
                    <a:ext cx="7018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бор позиций зака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835280" y="2205000"/>
          <a:ext cx="5257800" cy="29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205000"/>
                    <a:ext cx="5257800" cy="29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бор позиций зака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Private Sub CommandButton1_Cli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cols = Cells(3, 1).CurrentRegion.Columns.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Selection.Auto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Selection.AutoFilter Field:=ncols, Criteria1:="&lt;&gt;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nrows = Cells(3, 1).CurrentRegion.Rows.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For i = 3 To n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If Not (Rows(i).Hidden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 =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бор позиций зака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Rows("3:" &amp; Format(n)).Sel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lection.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Workbooks.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ctiveSheet.P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lection.Clear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ctiveSheet.Columns(1).Delete Shift:=xlTo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For i = 1 To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ctiveSheet.Columns(5).Delete Shift:=xlTo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ылка макро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ctiveSheet.Cells(1, 1).Sel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pplication.CutCopyMode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ÏóòüÈìÿ = ThisWorkbook.Path &amp; "\TovarÇàêàç.xls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ctiveWorkbook.SaveAs Filename:=ÏóòüÈìÿ, FileFormat:= 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xlNormal, Password:="", WriteResPassword:="", ReadOnlyRecommended:=False 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CreateBackup:=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ctiveWorkbook.Cl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Cells(1, 1).Sel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lection.Auto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ылка макро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ub ОткрытьПрасЛист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On Error GoTo e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ÏóòüÈìÿ = ThisWorkbook.Path &amp; "\Tovar0.xl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Workbooks.Open Filename:=ÏóòüÈì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ells.Sel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lection.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hDir ThisWorkbook.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MsgBox "Íàæìèòå ÎÊ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Workbooks.Open Filename:=ThisWorkbook.Path &amp; "\Шаблон.xl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ылка макро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Cells.Sel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ctiveSheet.Pa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pplication.CutCopyMode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Workbooks("Tovar0.xls").Cl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ctiveWorkbook.SaveAs Filename:=ThisWorkbook.Path &amp; "\Tovar.xls", FileFormat:= 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xlNormal, Password:="", WriteResPassword:="", ReadOnlyRecommended:=False 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CreateBackup:=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Exit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err: MsgBox ("Tovar.xls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грузка инвой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16040" y="1981080"/>
          <a:ext cx="7711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1981080"/>
                    <a:ext cx="7711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грузка инвой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290680" y="2066760"/>
          <a:ext cx="4562640" cy="39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0680" y="2066760"/>
                    <a:ext cx="456264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нирование закуп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81320" y="2004840"/>
          <a:ext cx="458136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1320" y="2004840"/>
                    <a:ext cx="458136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аз на недел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к=СоздатьОбъект("Документ.Перемещение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ПомещаетсяНаПолке=ПолучитьПомещаетсяНаПолке(Товар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МинимальныйОстатокРасчетный=ПолучитьМинимальныйОстаток(Товар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ДолжноБыть=Макс(МинимальныйОстатокРасчетный,ПомещаетсяНаПолке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ТребуетсяПереместитьВШтуках=ДолжноБыть-ОстатокКуд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нирование закуп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4360" y="1773360"/>
          <a:ext cx="748800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73360"/>
                    <a:ext cx="748800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нирование закуп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386080" y="1981080"/>
          <a:ext cx="43718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6080" y="1981080"/>
                    <a:ext cx="43718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нирование на филиал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290680" y="2023920"/>
          <a:ext cx="456264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0680" y="2023920"/>
                    <a:ext cx="456264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аз на недел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ТребуетсяПереместитьВШтуках&gt;0 Тог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требностьВУпаковках=Цел((ТребуетсяПереместитьВШтуках-1)/КолВоВУпаковке)+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требностьВШтуках=ПотребностьВУпаковках * КолВоВУпаковк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ОстатокКуда&lt;МинимальныйОстатокРасчетный Тог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к.Затребовано=ПотребностьВШтуках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ОстатокОткуда&gt;=Док.Затребовано Тог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к.Количество=Док.Затребовано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к.Количество=ОстатокОткуд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аз на недел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отребностьВШтуках + ОстатокКуда&lt;=ПомещаетсяНаПолке Тог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бодныйОстаток=ПомещаетсяНаПолке-МинимальныйОстатокРасчетны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вободныйОстаток&gt;0 Тог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отребностьВШтуках / СвободныйОстаток &gt; 0.5 Тог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.Затребовано=ПотребностьВШту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ОстатокОткуда&gt;=Док.Затребовано Тог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.Количество=Док.Затребован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.Количество=ОстатокОткуд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аз на недел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373040" y="1981080"/>
          <a:ext cx="6397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3040" y="1981080"/>
                    <a:ext cx="6397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остатков товар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403280" y="1844640"/>
          <a:ext cx="6048360" cy="388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844640"/>
                    <a:ext cx="6048360" cy="38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остатков товар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692360" y="1844640"/>
          <a:ext cx="5472000" cy="38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844640"/>
                    <a:ext cx="5472000" cy="38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остатков товар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203480" y="1981080"/>
          <a:ext cx="6735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3480" y="1981080"/>
                    <a:ext cx="6735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остатков товар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85800" y="1981080"/>
            <a:ext cx="7772400" cy="4114800"/>
            <a:chOff x="685800" y="1981080"/>
            <a:chExt cx="7772400" cy="41148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7724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 txBox="1"/>
            <p:nvPr/>
          </p:nvSpPr>
          <p:spPr>
            <a:xfrm>
              <a:off x="685800" y="1981080"/>
              <a:ext cx="777240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27:09Z</dcterms:modified>
  <cp:revision>7</cp:revision>
  <dc:subject/>
  <dc:title>PowerPoint Presentation</dc:title>
</cp:coreProperties>
</file>