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BC0A-9423-4745-B1D7-6281E26C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E3A1-E68E-46F4-A97B-7A6C8D6D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44BD-1793-46DB-955A-6EF1CF43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78BE-A8E8-4A7B-907A-17AA0F189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D51C-6969-42BD-BD05-A083D1C8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3F34-76CF-40B3-833B-FB8F61D5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C515-75CC-4988-A62C-2936F9F2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8BAD-BD92-45C9-8D40-4E920E4C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3424-87C6-4BE9-B425-94A4E5EE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5F91-4C5E-46EE-863D-C42912E4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196F-4C3E-4C83-9E69-6C160715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5477-1762-4470-AB6D-82435989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19E2-0D5A-413B-8348-2DD613B042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ренос данных из 7.7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490840" y="1981080"/>
          <a:ext cx="4160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0840" y="1981080"/>
                    <a:ext cx="4160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щение к 1С из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Attribute VB_Name = "Module1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Sub v8com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Dim cc As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Dim con As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Dim ЗапросВДБФ As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Set cc = CreateObject("V8.COMConnector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Set con = cc.Connect("File=D:\Bases\Radchenko;Usr=Администратор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щение к 1С из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кстЗапроса = "ВЫБРАТЬ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Материал.Код КАК Kod,ОстаткиМатериаловОстаткиИОбороты.Материал.Наименование КАК Material,ОстаткиМатериаловОстаткиИОбороты.Склад КАК Sklad,ОстаткиМатериаловОстаткиИОбороты.КоличествоКонечныйОстаток КАК Ostatok ИЗ РегистрНакопления.ОстаткиМатериалов.ОстаткиИОбороты КАК ОстаткиМатериаловОстаткиИОбороты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уть = "C:\1C.dbf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t ЗапросВДБФ = con.Обработки.ВыгрузкаДанных.Создать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росВДБФ.ВыгрузитьДанные ТекстЗапроса, Пу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щение к 1С через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!DOCTYPE HTML PUBLIC "-//W3C//DTD HTML 4.01 Transitional//EN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head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title&gt;v8com&lt;/titl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meta http-equiv="Content-Type" content="text/html; charset=windows-1251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script language="JavaScript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function v8com(TextOfQuery,Pat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{var cc,con,text,path,Quer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щение к 1С через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cc = new ActiveXObject("V8.COMConnector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con = cc.Connect("File=D:/Bases/Radchenko;Usr=Администратор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text="Выбрать Остатки.Материал.Код как kod,Остатки.Материал.Наименование как Material,Остатки.Склад как sklad,Остатки.КоличествоКонечныйОстаток как ostatok из РегистрНакопления.ОстаткиМатериалов.ОстаткиИОбороты как Остатки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path = "C:/1C.dbf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Query=con.Обработки.ВыгрузкаДанных.Созда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Query.ВыгрузитьДанные(text,path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щение к 1С через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scri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hea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iv onMouseDown="v8com('','')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iv align="center"&gt;&lt;font color="#FF0000"&gt;&lt;strong&gt;Click Me!!!&lt;/strong&gt;&lt;/font&gt;&lt;/div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div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.as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%@language=vbscript %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!DOCTYPE HTML PUBLIC "-//W3C//DTD HTML 4.01 Transitional//EN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title&gt;v8com&lt;/tit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meta http-equiv="Content-Type" content="text/html; charset=windows-1251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.as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Dim 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Dim c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Dim z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Set cc = CreateObject("V8.COMConnector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Set con = cc.Connect("File=C:\Bases\Radchenko;Usr=Администратор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tz = "ВЫБРАТЬ ОстаткиМатериаловОстаткиИОбороты.Материал.Код КАК Kod,ОстаткиМатериаловОстаткиИОбороты.Материал.Наименование КАК Material,ОстаткиМатериаловОстаткиИОбороты.Склад КАК Sklad,ОстаткиМатериаловОстаткиИОбороты.КоличествоКонечныйОстаток КАК Ostatok ИЗ РегистрНакопления.ОстаткиМатериалов.ОстаткиИОбороты КАК ОстаткиМатериаловОстаткиИОбороты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p = "C:\1C.dbf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Set z = con.Processings.UnloadData.Creat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z.UnloadData tz,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var xml="&lt;&gt;&lt;&gt;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Response.Write(xm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.as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=createobject("msxml.xmlhttp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.open(ur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=x.response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br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html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КнопкаВыполнитьНажатие(Элемен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V7=Новый COMОбъект("v77.Applicatio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ть="D:\Bases\DB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пыт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рыта=v7.Initialize(v7.RMTrade,"/d"+Путь+" /M /N"+"","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ключ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упреждение("Ошибка открытия информационной базы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опыт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м=Справочники.Автозапчаст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порт=V7.CreateObject("Справочник.Номенклатура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порт.НайтиПоКоду("120-00000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мортизаторы=Импорт.ТекущийЭлемент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порт.ИспользоватьРодителя(Амортизаторы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порт.ВыбратьЭлементы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ка Импорт.ПолучитьЭлемент()=1 Цик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=Ном.СоздатьЭлемент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.Код=Импорт.Код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.Наименование=Импорт.Наименова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.Тип=Импорт.__Тип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.Записать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зов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дура КнопкаВыполнитьНажатие(Элемент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xcel=Новый COMОбъект("Excel.Application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xcel.Workbooks.Open("D:\Bases\AddIns\Graphics.xls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xcel.Application.Run("Graphics.xls!Auto_Open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xcel.Application.Qui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данных в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b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цедура КнопкаВыполнитьНажатие(Элемен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кстЗапроса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"ВЫБР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Материал КАК Materia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Склад КАК Skla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СУММА(ОстаткиМатериаловОстаткиИОбороты.КоличествоКонечныйОстаток) КАК Ostat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И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РегистрНакопления.ОстаткиМатериалов.ОстаткиИОбороты КАК ОстаткиМатериаловОстаткиИОборо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данных в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b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СГРУППИРОВАТЬ П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таткиМатериаловОстаткиИОбороты.Материал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таткиМатериаловОстаткиИОбороты.Скла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УПОРЯДОЧИТЬ П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Materia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грузитьДанные(ТекстЗапроса,"C:\ost.dbf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цедура ВыгрузитьДанные(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дура ВыгрузитьДанные(ТекстЗапроса,Путь) Экспор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рос = Новый Запрос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рос.Текст = ТекстЗапрос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зультат = Запрос.Выполнить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бл=Новый ТаблицаЗначений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бл=Результат.Выгрузить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бф=Новый Xbas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цедура ВыгрузитьДанные(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Каждого Кол Из Табл.Колонки Цик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Строка(Кол.ТипЗначения.Типы().Получить(1))="Число" Тог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рядность=Кол.ТипЗначения.КвалификаторыЧисла.Разряднос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рядностьДробнойЧасти=Кол.ТипЗначения.КвалификаторыЧисла.РазрядностьДробнойЧаст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бф.Поля.Добавить(Кол.Имя,"N",Разрядность,РазрядностьДробнойЧасти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бф.Поля.Добавить(Кол.Имя,"S",Кол.Ширина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цедура ВыгрузитьДанные(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.Кодировка=КодировкаXBase.O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.СоздатьФайл(Путь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Каждого СтрокаТабл Из Табл Цик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.Добав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Каждого Кол Из Табл.Колонки Цик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[Кол.Имя]=СтрокаТабл[Кол.Имя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.Записа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.ЗакрытьФайл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17:46Z</dcterms:modified>
  <cp:revision>6</cp:revision>
  <dc:subject/>
  <dc:title>PowerPoint Presentation</dc:title>
</cp:coreProperties>
</file>