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254-F47A-4E8B-B342-AB32C299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DA1-09CA-4FAA-ABEE-447E5F00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245-3161-4485-B4A4-7573CA32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12D-B671-4303-924B-DB8B47F7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85F-F46F-42EC-B8C2-C1F6A042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B16-F2BA-4DF0-939A-37486CF2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5F6-A844-4824-AD3B-4280B060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689-B897-4BB2-876C-D3FE531D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EA3-EC84-4389-B70C-78091369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248-8EA1-400D-B81A-CF65E9F5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B3E5-3BDD-46BC-BE16-B96E3B8D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B41-A83A-4FE4-A44A-3434A60C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9205-7599-4AED-B598-42EA9AA070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вижение това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328920" y="1981080"/>
          <a:ext cx="2484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8920" y="1981080"/>
                    <a:ext cx="2484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При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дура ОбработкаПроведения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ратьСтроки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ПолучитьСтроку()=1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языватьСтроку(НомерСтрок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Материал=Материа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Партия=ТекущийДокумент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Количество=Количеств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СуммаРуб=Количество*Це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ФлагУчета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ДвижениеПриход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ОбработкаПроведения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=СоздатьОбъект("Регистр.Остатки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ратьСтроки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ПолучитьСтроку()=1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Количест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.УстановитьФильтр(Материал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.ВыбратьДвижения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РегОст.ПолучитьДвижение()=1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егОст.ФлагУчета=2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=РегОст.Парт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.ПолучитьСтрокуПоНомеру(РегОст.НомерСтроки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=Регистр.Остатки.Остаток(Материал,Док,"Количество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Кол=0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КолВо&gt;Кол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исатьКоличество=Ко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КолВо-Ко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исатьКоличество=Кол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Материал=Материа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Партия=Д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Количество=СписатьКоличеств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СуммаРуб=СписатьКоличество*Док.Це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ФлагУчета=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ДвижениеРасход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КолВо=0 Тогда Прервать; 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явно указать нужную дат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20050308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2005, 1,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1, 1,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2005, 1, 1, 10, 29, 50) ДАТАВРЕМЯ(2005, 01, 0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проверить дату на пустое знач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ДатаПроверяемая = Дата(1, 1, 1) Тогда Сообщить("Пустая дата!"); 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сравнить две даты (дни)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НачалоДня(Дата1) = НачалоДня(Дата2) Тогда Сообщить("Дни совпадают!"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прибавить к дате день, месяц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ующийДень = ТекущаяДата() + 60 * 60 * 24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бавитьМесяц(Дата(2005, 1, 31), 1) ДобавитьМесяц(Дата(2005, 2, 28), -1) КонецМесяца(ДобавитьМесяц(Дата(2005, 2, 28), -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ПолучитьДень(ИсходнаяДата, КоличествоПрибавляемыхДней) Запрос = НовыйЗапрос(" |ВЫБРАТЬ |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ОБАВИТЬКДАТЕ(&amp;ИсходнаяДата, ДЕНЬ, &amp;Количество) как Дата"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ИсходнаяДата", ИсходнаяДата); Запрос.УстановитьПараметр("Количество", КоличествоПрибавляемыхДней); ВозвратЗапрос.Выполнить().Выгрузить()[0].Дат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артии това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376360" y="1981080"/>
          <a:ext cx="4391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1981080"/>
                    <a:ext cx="439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ка типа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можно проверить тип значения переменной на равенство нужному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яНужногоТипа = "ДокументСсылка.РеализацияТоваров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ТипЗнч(ОбрабатываемыйДокумент) = Тип(ИмяНужногоТипа)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/ Строки кода, выполняемые при истинности услов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Есл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устая ссылка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очистить реквизит формы, имеющий ссылочный тип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вар = Справочники.Номенклатура.ПустаяСсылка(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очистить значение, имеющее тип "Хранилище значения"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квизитХранилище = Неопределен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ар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упление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артия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мониторов по цене 3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артия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мониторов по цене 3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ого 10 мониторов на сумму 1500+1550=305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ар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ход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ано 7 мониторов по розничной цене 3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умму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45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бе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данного това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* 300 + 2 * 310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12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быль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450 – 2120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3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о средн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редняя це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0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10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305 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бестоимость проданного това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05 * 7 =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135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бы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450 – 2135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15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определить справоч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Материа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Единицы измерения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 «Приход», «Расх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регистр остатков «Остат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гистр «Остатк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16000" y="1916280"/>
          <a:ext cx="7128000" cy="44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6280"/>
                    <a:ext cx="712800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кумент «При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16000" y="1773360"/>
          <a:ext cx="68407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73360"/>
                    <a:ext cx="68407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кумент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42920" y="1773360"/>
          <a:ext cx="68421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73360"/>
                    <a:ext cx="68421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9:29Z</dcterms:modified>
  <cp:revision>19</cp:revision>
  <dc:subject/>
  <dc:title>PowerPoint Presentation</dc:title>
</cp:coreProperties>
</file>