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C94-35CF-4B40-A73E-18A6FB07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F06-AC1D-4536-A6B7-D2013111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16B-7B33-4540-BDAA-5436B044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206-823B-4418-A49D-AA4EF6F4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D6D-49DF-40F8-B535-C28B9D9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8CE-D93B-4242-AD4F-4F2E9945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21C-EC4D-478C-9836-15690672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3C9-3EAD-49EB-8477-9F5B5233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230-E4EE-4FCD-81D4-CBB249DF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B41-9455-43AF-AE06-31B2BE9E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333-051F-400E-AF04-F508E55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439-FF88-4787-9F0D-E530EC1B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89FD-33F2-42E1-A33F-E7F20F2A68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два отч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книг данного авт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соавторов данной кни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чание: у каждого автора может быть несколько книг и у каждой книги может быть несколько соав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ечатьКниг(ТабДок, Ссылка) Эк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Книг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Ссылка = &amp;Ссылка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ВладелецПредставление=ВыборкаДет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делец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КнигаПредставление=ВыборкаДетали.Книга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 ВыборкаДетали.Уровень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 ДействияФормыПечатьАвторов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Авторов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ПечатьАвторов(ТабДок, Ссылка) 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Авторов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 И Книги.Владелец = Авторы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СписокКниг КАК СписокКни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Книга = 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 = &amp;Ссылка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.Уровень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87280" y="1197000"/>
          <a:ext cx="6985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985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ечати ав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чат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2133720"/>
          <a:ext cx="770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70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правоч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 (реквизит «Книга», тип значения – «Справочник.СписокКниг»), подчинен справочнику 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писокКниг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баз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38200" y="1981080"/>
          <a:ext cx="626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981080"/>
                    <a:ext cx="626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х отчетов создать реквизиты «ВыбАвтор» и «Выб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бОбъект.Выбран()=0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упреждение(«Текст1»+РазделительСтрок+«Текст2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запрос по приме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Товар=Справочник.Товары.ТекущийЭле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Цена=Справочник.Товары.Це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Группировка Това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Условие (Товар=ВыбОбъект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Запрос.Цен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Книга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а книга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Авто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Книга=ВыбКнига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Автор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Автор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 автор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Автор=ВыбАвтор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Книг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ФормыПечатьКниг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Книг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7:54Z</dcterms:modified>
  <cp:revision>15</cp:revision>
  <dc:subject/>
  <dc:title>PowerPoint Presentation</dc:title>
</cp:coreProperties>
</file>