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F67-AA09-4259-B094-685D2800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868-DACC-43C2-8B25-BBF30722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0B2-D9A7-4B34-AB94-988CFC5F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5EE-1365-41CC-B8DE-599B5C6F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70D-C19E-4E6A-A0FD-01253F6D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F03-5244-441C-8ECB-5A1448D4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829-D5A4-4FD4-B79F-ECF6AE73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A2B-F23B-4C84-9D78-4CE00921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569-A0BF-42E9-960C-172FA43E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DA8-18AA-4B1F-B620-6E6D48C4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A24-EA09-4B6F-B4DE-7CBAA0C2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C84-A54A-43DC-84C0-B16FB876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1D66-4FAD-47C0-B530-8F978CBDA1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стема программ "1С:Предприятие" предназначена для решения широкого спектра задач автоматизации учета и управления, стоящих перед динамично развивающимися современными предприяти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"1С:Предприятие" представляет собой систему прикладных решений, построенных по единым принципам и на единой технологической платформе. Руководитель может выбрать решение, которое соответствует актуальным потребностям предприятия и будет в дальнейшем развиваться по мере роста предприятия или расширения задач автомат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м факто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1 * 2 * 3 * … * (N-1) *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N * (N-1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!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исать программу вычисления фактори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 язык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цедура &lt;?&gt;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&lt;Имя_проц&gt;([[Знач] &lt;Парам1&gt;[=&lt;ДефЗнач&gt;]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,[Знач] &lt;ПарамN&gt;[=&lt;ДефЗнач&gt;]])[Экспорт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[Возврат;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я &lt;?&gt;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врат ??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 &lt;Имя_функции&gt;([[Знач] &lt;Парам1&gt;[=&lt;ДефЗнач&gt;], ... ,[Знач] &lt;ПарамN&gt;[=&lt;ДефЗнач&gt;]])[Экспорт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&lt;ВозвращаемоеЗначение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&lt;?&gt; 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&lt;Логическое_выражение&gt;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Факт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N&gt;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(N*Факт(N-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Факт(Параметр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программу для вывода на экран всех документов, подчиненных данному докумен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окумент2 считается подчиненным документу1, если в документе2 имеется реквизит, значение которого является ссылкой на документ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чиненные 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98680" y="1981080"/>
          <a:ext cx="6146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1981080"/>
                    <a:ext cx="6146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 &lt;?&gt; 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&lt;Логическое_выражение&gt;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ПолучитьДокумент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Документ – реквизит формы, содержащий документ, для которого нужно найти подчиненные докумен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м Дерев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олучитьПодчиненные(ТекДо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=1 Тог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Дерево+"/"+ТекДок.Вид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Дерево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ка Докум.ПолучитьДокумент()=1 Цик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.ТекущийДокумент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ент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актуальных задач учета и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, специализированные и индивидуальные ре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ерывное развитие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отдельных задач и комплексная автомат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хнологическая платфор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и сервис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С:Предприятие 8.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1С:Предприятие 8.0 имеет в своей основе ряд механизмов, определяющих концепцию создания прикладных решений. Наличие этих механизмов позволяет максимально соотнести технологические возможности с бизнес-схемой разработки и внедрения прикладных реш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ключевых моментов можно выделить изоляцию разработчика от технологических подробностей, алгоритмическое программирование только бизнес-логики приложения, использование собственной модели базы данных и масштабируемость прикладных решений без их дорабо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Приклад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став прикладных механизмов 1С:Предприятия ориентирован на решение задач автоматизации учета и управления предприятием. Использование проблеммно-ориентированных объектов позволяет разработчику решать самый широкий круг задач складского, бухгалтерского, управленческого учета, расчета зарплаты, анализа данных и управления на уровне бизнес-процес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рфейс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1С:Предприятии 8.0 реализован современный дизайн интерфейса и повышена комфортность работы пользователей при работе с системой в течение длительного време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Масштабируе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ологическая платформа обеспечивает различные варианты работы прикладного решения: от персонального однопользовательского, до работы в масштабах больших рабочих групп и предприятий. Ключевым моментом масштабируемости является то, что повышение производительности достигается средствами платформы, и прикладные решения не требуют доработки при увеличении количества одновременно работающих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г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1С:Предприятие 8.0 является открытой системой. Предоставляется возможность для интеграции практически с любыми внешними программами и оборудованием на основе общепризнанных открытых стандартов и протоколов передачи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истеме 1С:Предприятие 8.0 имеется целый набор средств, с помощью которых мож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, обрабатывать и обмениваться данными различных форма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уществлять доступ ко всем объектам системы 1С:Предприятие 8.0, реализующим ее функциональные возможност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различные протоколы обмен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стандарты взаимодействия с другими подсистемам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 собственные интернет-реш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Web-расши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eb–расширение, хотя и входит с состав технологической платформы, поставляется в виде отдельного программного продукта и позволяет встраивать доступ к данным 1С:Предприятия в существующие Web-сайты и Web-приложения, а так же создавать готовые Web-приложения, использующие информационную базу 1С:Предприятия 8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5:21Z</dcterms:modified>
  <cp:revision>15</cp:revision>
  <dc:subject/>
  <dc:title>PowerPoint Presentation</dc:title>
</cp:coreProperties>
</file>