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58D-8CCB-4E65-80BA-7A894ADB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4CB-CBFA-4767-8E86-A63FD3D0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26A-1C86-4455-BFD0-EF489016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777-7B40-4555-8217-E23950F7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5CB-18F0-44C9-9A4B-5E8CB2DF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4CB-8B91-499F-A187-F73D3ED3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650-C012-444D-AD9A-DC86F3B3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9C2-057F-43F6-B9D8-1C670FE8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29A-413C-409E-B516-20C5F32B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8FC-3330-4DF5-9E0F-9DE07CB0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BE0-6B1B-4F94-A338-85C2E6CF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07F-648B-4844-BB9F-0724D9A9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7B8D-F983-4992-8522-6B3BC8F552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Система стандартов в 8.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е стандарты разработки ставят своей цель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разработки типовых конфигураций для платформы «1С:Предприятие 8.0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фикаци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ехнических решений, реализуемых в разных конфигурация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изучения и освоения типовых конфигураций партнерами и пользователя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модификации и внедрения типовых конфигурац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процесса разработки партнерских реш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р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ли добавлять в поля запроса представления объектов или достаточно ссылки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сылки не достаточно. Если объект планируется выводить визуально (в отчетах, в табличных полях и т.п.) то необходимо в запросе получать представление объекта и его показывать. Показывать ссылку получится неэффективно, т.к. в этом случае система все равно по каждой ссылке лезет в базу за ее представлением, что существенно замедляет раб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ем отличается использование внутреннего соединения с условием в оператор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использования двух таблиц с условием в предложен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ичем не отличается. В типовых конфигурациях необходимо использовать внутреннее соединение (см. стандар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ли ограничивать выборки из виртуальных таблиц условиями в параметрах таблиц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, стоит. Виртуальная таблица работает аналогично вложенному запросу, т.е. в результат вложенной таблицы попадут либо все записи, либо уже отобранные по условию в параметре таблицы. Второе оптимальнее. См. также раздел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накладывать условия по полям таблиц регистров, чтобы наилучшим образом использовать индексы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гистры накопления и регистры сведений имеют общий индекс по всем измерениям, в порядке их расположения в метаданных. Условие лучше накладывать так, чтобы оно охватывало любое количеств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в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ений регистра без пропусков. В этом случае используется индекс и отбор работает быстро. Либо условие стоит накладывать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ение, имеющее инде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 синхронизируются поля результатов при объединении запросов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и объединении различных запросов поля синхронизируются по порядковому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омер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я в результате запроса. Совпадение полей по прикладному смыслу необходимо отслеживать самостояте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 указать итоги и по элементу и по иерархии поля типа ссылка на справочник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тоги по полю и по иерархии надо указывать отдель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префик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иксиру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ы, 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фиксиру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метаданных. Правила образования имен объектов метаданных описаны в отдельном стандарт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фор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управления ф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фиксация переменных по типу 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мен переменных префиксы по типу значения не используются. В название переменной включается указание на тип значения для значений следующих тип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ик (СправочникМенеджер, СправочникСписок, СправочникОбъект, СправочникСсылка, СправочникВыбор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образования имен переме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еременных (параметров) следует образовывать от терминов предметной области. При именовании переменных следует использовать только документированные терми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мени переменной должно быть понятно ее назнач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ледует образовывать путем «склеивания» слов - удаления пробелов между словами. Каждое от дельное слово в «склеенном» имени пишется с прописной буквы. Предлоги и местоимения из одной буквы также пишутся прописными буква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аталогом -  РаботаСКатало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ачек в коробке - КоличествоПачекВКороб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образования имен процедур (функиц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оцедур в общем случае, следует образовывать от глаголов неопределенного вида, на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ПроверитьДублиСтрок(), неправильно ПроверкаДублейСтрок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ЗагрузитьКонтрагента(), неправильно ЗагрузкаКонтрагента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оцедур и функции должны давать представление о характере выполняемых процедурой (функцией)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хороших им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ДублейСтрок(), ПодборВидаРасчета(), ИнформацияОПроводке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плохих им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(), Есть(), ЕщеФлажки(), НамПодходит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Система стандартов в 8.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стандартов разработки конфигураций вырабатываются треб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местным решениям (конфигурациям, разработанным сторонними разработчиками, но распространяемым от имени формы «1С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местимым решениям (конфигурациям, претендующим на получение сертификата «Совместимо! 1С:Предприятие» или аналогичног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едмет стандартизаци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содержит описание использования конструкций встроенного языка в слож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противоречивых случа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в условиях Если… проверяется возвращаемое значение функции/метода, следует использовать точное равен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Если Выбран() &lt;&gt; 0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Если Выбран() = 1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использование вместо вложенных конструкций Если...КонецЕсли конструкций типа Если...ИначеЕсли...ИначеЕсли... с «обратными» условиями, как сложные для анализа, модификации и отлад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конструкц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А=1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(Б=2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(В=3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=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заменена на конструкци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А&lt;&gt;1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Б&lt;&gt;2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В=3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=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роверка логических значений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функции, возвращающей логическое значение, не следует проверять путем сравнения с логической констант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Новый() = Истина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Новый()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Работа с запросам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исание текстов запро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ключевые слова языка запросов пишутся заглавными букв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язательные конструкции запроса в типовых конфигурациях указывать обязательно. Это повышает наглядность тек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составляет указание имени таблицы перед именами полей в предложении Выбрать, когда используется только одна таблица. В этом случае имя таблицы можно не указыва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екста запроса должна быть иерархической, т.е. не следует писать запрос в одну строку, даже короткий. Это повышает наглядность текста запро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текст запроса составляется из нескольких частей в модуле так же рекомендуется придерживаться этого прави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использовать синонимы полей запросов, в тех случаях, когда имя поля запроса не следует явно из имени поля таблицы. Другими словами не допускается автоматическая генерация имени поля, кроме явных случае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не допускается автоматическая генерация имени поля типа «Номенклатура1», т.е. когда имя поля запроса не уникально, ему тоже обязательно присвоить синони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Работа с запросам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струирование за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использования в запросе выборки из нескольких таблиц, разделенных запятыми, кроме случаев, когда другими средствами получить результат не уда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 соединения двух таблиц слева или справа, в текстах запросов типовых конфигураций необходимо преимущественно использовать ЛЕВОЕ ВНЕШНЕЕ СОЕДИНЕНИЕ. Использование правого соединения допускается только в тех случаях, когда левое соединение использовать невозможно или затруднитель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menov</cp:lastModifiedBy>
  <dcterms:modified xsi:type="dcterms:W3CDTF">2005-11-30T00:09:59Z</dcterms:modified>
  <cp:revision>10</cp:revision>
  <dc:subject/>
  <dc:title>PowerPoint Presentation</dc:title>
</cp:coreProperties>
</file>