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BF4-C321-4181-9C3B-409EF7DD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AD2-DB00-40AA-B56D-30C4E889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B38C-68C8-47C4-A318-165742F0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090-D56C-40D8-8F20-971575FC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D21-25FD-4933-9E9B-323B71AB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18B-AE01-4A28-AA44-6574AA3B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DE8F-E468-4DDE-BE69-C22995E2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809-6FA0-4E5E-8A23-35DBEAF0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60A5-2424-463F-B8A0-43CD6FCC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599-51E1-41A6-AF45-EE68C1CD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A3EF-062D-4C1D-8613-4ED80C71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94D-8A67-41B0-97FD-1F0F9338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5E2D-CF9C-4A28-9A21-A9A676A698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417760" y="1981080"/>
          <a:ext cx="4307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7760" y="1981080"/>
                    <a:ext cx="4307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"ВЫБР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 КАК Материа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Период КАК Перио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КоличествоРасход КАК КоличествоРасхо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КоличествоКонечныйОстаток КАК КоличествоКонечныйОстат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статкиИОбороты(, , День, , ) КАК ОстаткиМатериаловОстаткиИОборо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ИТОГИ СУММА(КоличествоРасход), СУММА(КоличествоКонечныйОстаток)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Материа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Период ПЕРИОДАМИ(ДЕНЬ, , )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ИзмеренийВСтроках = ТипРазмещения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Строках = ТипРазмещенияРеквизитов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Колонках = ТипРазмещенияРеквизитов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ПоложениеИтоговСтрок = ПоложениеИтоговСтрокСводнойТаблицы.Вер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МакетОформления = СтандартноеОформление.БезОформл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ИсточникДанных = Результа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Строки.Добавить(СводнаяТаблица.Поля.Материал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Колонки.Добавить(СводнаяТаблица.Поля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Данные.Добавить(СводнаяТаблица.Поля.КоличествоРасх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Данные.Добавить(СводнаяТаблица.Поля.КоличествоКонечныйОстат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оркаМатериал = Результат.Выбрать(ОбходРезультатаЗапроса.ПоГруппировкам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}}КОНСТРУКТОР_ВЫХОДНЫХ_ФОР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74840" y="2324160"/>
          <a:ext cx="63928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324160"/>
                    <a:ext cx="6392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сводная таблиц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сти примеры сводных табл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диаграмма, серия диаграммы, точка диаграмм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сти примеры диаграм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432160" y="1981080"/>
          <a:ext cx="4278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2160" y="1981080"/>
                    <a:ext cx="427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01720" y="1981080"/>
          <a:ext cx="5738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1720" y="1981080"/>
                    <a:ext cx="5738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Результ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Диаграмм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Выборка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СводнаяТаблицаВыбор(Элемент, Область, СтандартнаяОбработ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ЭлементНоменклатуры=Элемент.ТекущаяОбласть.Текс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Обновление = Лож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Очисти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АвтоТранспонирование = Лож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каМатериал.Сброс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каМатериал = Результат.Выбрать(ОбходРезультатаЗапроса.ПоГруппировкам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ВыборкаМатериал.Следующий()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Если ЭлементНоменклатуры&lt;&gt;ВыборкаМатериал.Материал.Наименование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 = Диаграмма.УстановитьСерию("Продажи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.Текст = "Продажи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.Расшифровка = ВыборкаМатериал.Материа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 = Диаграмма.УстановитьСерию("Остаток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.Текст = "Остаток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.Расшифровка = ВыборкаМатериал.Материа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оркаПериод = ВыборкаМатериал.Выбрать(ОбходРезультатаЗапроса.ПоГруппировкам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ВыборкаПериод.Следующий()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 = Диаграмма.УстановитьТочку(ВыборкаПериод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.Текст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.Расшифровка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УстановитьЗначение(Точка, Серия, ВыборкаПериод.КоличествоРасх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 = Диаграмма.УстановитьТочку(ВыборкаПериод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.Текст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.Расшифровка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УстановитьЗначение(Точка1, Серия1, ВыборкаПериод.КоличествоКонечныйОстат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АвтоТранспонирование = Исти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Обновление = Исти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йствияФормыГрафикиСформирова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ДействияФормыГрафикиСформировать(Кноп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 = ЭлементыФормы.СводнаяТаблица.ВстроенныеТаблицы[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 = ЭлементыФормы.Диаграмм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фики(СводнаяТаблица, Диаграмма, Дата1, Дата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Графики(СводнаяТаблица, Диаграмма, Дата1, Дата2) Эк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{{КОНСТРУКТОР_ВЫХОДНЫХ_ФОРМ(Графи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 Данный фрагмент построен конструктор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 При повторном использовании конструктора, внесенные вручную изменения будут утеряны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23:14Z</dcterms:modified>
  <cp:revision>12</cp:revision>
  <dc:subject/>
  <dc:title>PowerPoint Presentation</dc:title>
</cp:coreProperties>
</file>