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44F-F001-4114-BA83-07FEB6B5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0A6-514C-4C06-AD04-7B3A2069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D78-8955-485C-81FC-DDACAD02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4D0-654E-4EE7-91D4-62900A9E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1B5-6C31-4FC9-A86C-C8C0697E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9A6-2A85-463B-98F3-9185A9B2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39A-CEED-4C30-8555-27D00D3B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759-75D9-4274-9AA6-072A6F13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D0B-3994-4F8D-8ECE-23CFDB8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E06-C8B8-498B-9C06-B47E22B6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6D6-8D91-4161-9FC0-5EF08387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677-6A04-4802-9167-F1AEB82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9EA7-B3B2-4D97-8F2F-364E965F8B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нос данных из 7.7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90840" y="1981080"/>
          <a:ext cx="416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981080"/>
                    <a:ext cx="416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ttribute VB_Name = "Module1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ub v8com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c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on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ЗапросВДБФ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on = cc.Connect("File=D:\Bases\Radchenko;Usr=Администратор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Запроса = "ВЫБРАТЬ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ь = "C:\1C.db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t ЗапросВДБФ = con.Обработки.ВыгрузкаДанных.Созд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ВДБФ.ВыгрузитьДанные ТекстЗапроса, П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unction v8com(TextOfQuery,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{var cc,con,text,path,Qu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c = new ActiveXObject("V8.COMConnect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on = cc.Connect("File=D:/Bases/Radchenko;Usr=Администратор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text="Выбрать Остатки.Материал.Код как kod,Остатки.Материал.Наименование как Material,Остатки.Склад как sklad,Остатки.КоличествоКонечныйОстаток как ostatok из РегистрНакопления.ОстаткиМатериалов.ОстаткиИОбороты как Остатки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ath = "C:/1C.db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=con.Обработки.ВыгрузкаДанных.Созд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.ВыгрузитьДанные(text,pa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onMouseDown="v8com('','')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align="center"&gt;&lt;font color="#FF0000"&gt;&lt;strong&gt;Click Me!!!&lt;/strong&gt;&lt;/font&gt;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@language=vbscript %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on = cc.Connect("File=C:\Bases\Radchenko;Usr=Администратор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tz = "ВЫБРАТЬ 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p = "C:\1C.db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t z = con.Processings.UnloadData.Creat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.UnloadData tz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ar xml="&lt;&gt;&lt;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Response.Write(xm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createobject("msxml.xmlhttp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.open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=x.response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V7=Новый COMОбъект("v77.Applicati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="D:\Bases\DB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ы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опы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=Справочники.Автозап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=V7.CreateObject("Справочник.Номенклатура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НайтиПоКоду("120-0000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торы=Импорт.Текущий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ИспользоватьРодителя(Амортизатор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ВыбратьЭлементы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Импорт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=Ном.Создать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Код=Импорт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Наименование=Импорт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Тип=Импорт.__Ти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зо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=Новый COMОбъект("Excel.Applicatio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Workbooks.Open("D:\Bases\AddIns\Graphics.xl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Run("Graphics.xls!Auto_Ope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Qu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стЗапроса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Mater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Склад КАК Skl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СУММА(ОстаткиМатериаловОстаткиИОбороты.КоличествоКонечныйОстаток) КАК Osta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 КАК ОстаткиМатериаловОстаткиИОбор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СГРУППИРОВА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Матери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С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УПОРЯДОЧИ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грузитьДанные(ТекстЗапроса,"C:\ost.db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ТекстЗапроса,Путь) Эк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.Текст = ТекстЗа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Новый ТаблицаЗначений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Результат.Выгруз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ф=Новый X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трока(Кол.ТипЗначения.Типы().Получить(1))="Число"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=Кол.ТипЗначения.КвалификаторыЧисла.Разряд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ДробнойЧасти=Кол.ТипЗначения.КвалификаторыЧисла.РазрядностьДробной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N",Разрядность,РазрядностьДробнойЧаст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S",Кол.Шири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Кодировка=КодировкаXBase.O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СоздатьФайл(Пу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СтрокаТабл Из Табл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Добав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[Кол.Имя]=СтрокаТабл[Кол.Имя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крытьФайл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7:46Z</dcterms:modified>
  <cp:revision>6</cp:revision>
  <dc:subject/>
  <dc:title>PowerPoint Presentation</dc:title>
</cp:coreProperties>
</file>