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6B94-3944-4618-9F44-AE2D9899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091D-3605-4410-9D38-51C17E1C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E016-BAE3-43AF-902C-16D90F98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1C85-D61B-4914-8E37-AA228D5E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1D92-3A3D-473B-94A6-A5D02DA5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CD4B-A9F4-430C-AE8E-0B732746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A93F-B588-4761-A771-20401DFF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2507-7CFC-4FB9-8E4B-F61AD40E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3A57-3B5A-404D-BE04-099C2002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F2F4-F19C-4DAB-B7E0-A9EE8B80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E4DC-5BC4-4C33-8038-B3D086D1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EFED-2E36-44EA-8924-1EFE7ACC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B099-682D-48C4-A49A-DC1EE471FA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вижение това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328920" y="1981080"/>
          <a:ext cx="2484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28920" y="1981080"/>
                    <a:ext cx="2484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При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дура ОбработкаПроведения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ратьСтроки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 ПолучитьСтроку()=1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языватьСтроку(НомерСтроки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Материал=Материа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Партия=ТекущийДокумент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Количество=Количеств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СуммаРуб=Количество*Це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ФлагУчета=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ДвижениеПриходВыполн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ОбработкаПроведения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Ост=СоздатьОбъект("Регистр.Остатки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ратьСтроки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 ПолучитьСтроку()=1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Во=Количеств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Ост.УстановитьФильтр(Материал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Ост.ВыбратьДвижения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 РегОст.ПолучитьДвижение()=1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РегОст.ФлагУчета=2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олжи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=РегОст.Парт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.ПолучитьСтрокуПоНомеру(РегОст.НомерСтроки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=Регистр.Остатки.Остаток(Материал,Док,"Количество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Кол=0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олжи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КолВо&gt;Кол Т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исатьКоличество=Кол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Во=КолВо-Кол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исатьКоличество=КолВ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Во=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Материал=Материа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Партия=Док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Количество=СписатьКоличеств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СуммаРуб=СписатьКоличество*Док.Це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ФлагУчета=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ДвижениеРасходВыполн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КолВо=0 Тогда Прервать; 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явно указать нужную дат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'20050308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а(2005, 1,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а(1, 1,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а(2005, 1, 1, 10, 29, 50) ДАТАВРЕМЯ(2005, 01, 01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проверить дату на пустое значени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ДатаПроверяемая = Дата(1, 1, 1) Тогда Сообщить("Пустая дата!"); КонецЕс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сравнить две даты (дни)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НачалоДня(Дата1) = НачалоДня(Дата2) Тогда Сообщить("Дни совпадают!"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Есл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прибавить к дате день, месяц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ующийДень = ТекущаяДата() + 60 * 60 * 24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бавитьМесяц(Дата(2005, 1, 31), 1) ДобавитьМесяц(Дата(2005, 2, 28), -1) КонецМесяца(ДобавитьМесяц(Дата(2005, 2, 28), -1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яПолучитьДень(ИсходнаяДата, КоличествоПрибавляемыхДней) Запрос = НовыйЗапрос(" |ВЫБРАТЬ |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ДОБАВИТЬКДАТЕ(&amp;ИсходнаяДата, ДЕНЬ, &amp;Количество) как Дата";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ИсходнаяДата", ИсходнаяДата); Запрос.УстановитьПараметр("Количество", КоличествоПрибавляемыхДней); ВозвратЗапрос.Выполнить().Выгрузить()[0].Дат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Функ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артии това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376360" y="1981080"/>
          <a:ext cx="4391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360" y="1981080"/>
                    <a:ext cx="4391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ка типа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можно проверить тип значения переменной на равенство нужному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мяНужногоТипа = "ДокументСсылка.РеализацияТоваров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ТипЗнч(ОбрабатываемыйДокумент) = Тип(ИмяНужногоТипа) Тог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// Строки кода, выполняемые при истинности услов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Есл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устая ссылка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очистить реквизит формы, имеющий ссылочный тип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вар = Справочники.Номенклатура.ПустаяСсылка(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очистить значение, имеющее тип "Хранилище значения"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квизитХранилище = Неопределено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исание пар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тупление това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артия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мониторов по цене 3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 шту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артия 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мониторов по цене 31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 шту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того 10 мониторов на сумму 1500+1550=305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исание пар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сход това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дано 7 мониторов по розничной цене 35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 штук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сумму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45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ебестоим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оданного товар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* 300 + 2 * 310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12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ибыль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450 – 2120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33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исание по средн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редняя цен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05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10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305 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ебестоимость проданного товар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305 * 7 =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135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ибыл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450 – 2135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315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определить справочн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Материа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Единицы измерения»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ументы «Приход», «Расх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регистр остатков «Остат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гистр «Остатк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116000" y="1916280"/>
          <a:ext cx="7128000" cy="44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16280"/>
                    <a:ext cx="712800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кумент «При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116000" y="1773360"/>
          <a:ext cx="684072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73360"/>
                    <a:ext cx="684072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кумент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042920" y="1773360"/>
          <a:ext cx="684216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73360"/>
                    <a:ext cx="68421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09:29Z</dcterms:modified>
  <cp:revision>19</cp:revision>
  <dc:subject/>
  <dc:title>PowerPoint Presentation</dc:title>
</cp:coreProperties>
</file>