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F1B8-0A28-4402-92D9-05C1E5F43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1D7A-0FC3-4AE5-A3DD-B0D7AC54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A8AB-4533-4AA9-86AF-A73F7374C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33A5-AA7F-4336-898C-8AE2BB1D0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A437-F901-4CFD-BD5C-5B315B46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86A6-D4E6-40F7-9118-68825463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9363-0878-41D6-87EF-0FFC55D3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9D24-3C53-4370-BB6D-C418C5B5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A63E-451F-40E0-8164-393B7F2C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E334-C25D-411D-9B10-06340948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BA66-7428-4C10-9862-1DC4995E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6644-18D6-4D92-B89C-A06848BB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3D10-5359-40C2-985B-D3848FDDD8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:Предприятие 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истема программ "1С:Предприятие" предназначена для решения широкого спектра задач автоматизации учета и управления, стоящих перед динамично развивающимися современными предприятиям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"1С:Предприятие" представляет собой систему прикладных решений, построенных по единым принципам и на единой технологической платформе. Руководитель может выбрать решение, которое соответствует актуальным потребностям предприятия и будет в дальнейшем развиваться по мере роста предприятия или расширения задач автоматиз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помним факториа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!=1 * 2 * 3 * … * (N-1) *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!=N * (N-1)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!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писать программу вычисления факториал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спользовать конструкции языка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цедура &lt;?&gt;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цедура &lt;Имя_проц&gt;([[Знач] &lt;Парам1&gt;[=&lt;ДефЗнач&gt;]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.. ,[Знач] &lt;ПарамN&gt;[=&lt;ДефЗнач&gt;]])[Экспорт]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//Объявления локальных переменных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//Операторы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[Возврат;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//Операторы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ункция &lt;?&gt;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зврат ??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ецФунк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ункция &lt;Имя_функции&gt;([[Знач] &lt;Парам1&gt;[=&lt;ДефЗнач&gt;], ... ,[Знач] &lt;ПарамN&gt;[=&lt;ДефЗнач&gt;]])[Экспорт]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//Объявления локальных переменных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// Операторы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врат &lt;ВозвращаемоеЗначение&gt;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// Операторы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Функ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&lt;?&gt;  Тог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&lt;Логическое_выражение&gt; Тог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операторы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шение задачи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ункция Факт(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N&gt;1 Тог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врат(N*Факт(N-1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ач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врат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Функ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дура Сформировать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общить(Факт(Параметр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писать программу для вывода на экран всех документов, подчиненных данному документ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пределение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документ2 считается подчиненным документу1, если в документе2 имеется реквизит, значение которого является ссылкой на документ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дчиненные докумен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498680" y="1981080"/>
          <a:ext cx="61466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8680" y="1981080"/>
                    <a:ext cx="61466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овать конструкци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ка &lt;?&gt;  Цик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а &lt;Логическое_выражение&gt; Цик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операторы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кум=СоздатьОбъект("Документ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Докум.ВыбратьПодчиненныеДокументы(Документ.ДатаДок,ТекущаяДата(),ТекДок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Докум.ПолучитьДокумент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общить("   "+Докум.Вид()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//Документ – реквизит формы, содержащий документ, для которого нужно найти подчиненные докумен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шение задачи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ерем Дерево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цедура ПолучитьПодчиненные(ТекДо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кум=СоздатьОбъект("Документ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Докум.ВыбратьПодчиненныеДокументы(Документ.ДатаДок,ТекущаяДата(),ТекДок)=1 Тогд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рево=Дерево+"/"+ТекДок.Вид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общить(Дерево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Пока Докум.ПолучитьДокумент()=1 Цик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общить("   "+Докум.Вид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ПолучитьПодчиненные(Докум.ТекущийДокумент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цедура Сформировать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рево=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ПолучитьПодчиненные(Документ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:Предприятие 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 актуальных задач учета и управ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тные, специализированные и индивидуальные реш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рерывное развитие систе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 отдельных задач и комплексная автоматизац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иная технологическая платфор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ытость систе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держка и сервис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1С:Предприятие 8.0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a3611f"/>
                </a:solidFill>
                <a:latin typeface="Tahoma"/>
              </a:rPr>
              <a:t>Общие механиз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1С:Предприятие 8.0 имеет в своей основе ряд механизмов, определяющих концепцию создания прикладных решений. Наличие этих механизмов позволяет максимально соотнести технологические возможности с бизнес-схемой разработки и внедрения прикладных реше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3611f"/>
                </a:solidFill>
                <a:latin typeface="Tahoma"/>
              </a:rPr>
              <a:t>Общие механиз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качестве ключевых моментов можно выделить изоляцию разработчика от технологических подробностей, алгоритмическое программирование только бизнес-логики приложения, использование собственной модели базы данных и масштабируемость прикладных решений без их доработ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3611f"/>
                </a:solidFill>
                <a:latin typeface="Tahoma"/>
              </a:rPr>
              <a:t>Прикладные механиз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став прикладных механизмов 1С:Предприятия ориентирован на решение задач автоматизации учета и управления предприятием. Использование проблеммно-ориентированных объектов позволяет разработчику решать самый широкий круг задач складского, бухгалтерского, управленческого учета, расчета зарплаты, анализа данных и управления на уровне бизнес-процесс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3611f"/>
                </a:solidFill>
                <a:latin typeface="Tahoma"/>
              </a:rPr>
              <a:t>Интерфейсные механиз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1С:Предприятии 8.0 реализован современный дизайн интерфейса и повышена комфортность работы пользователей при работе с системой в течение длительного времен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3611f"/>
                </a:solidFill>
                <a:latin typeface="Tahoma"/>
              </a:rPr>
              <a:t>Масштабируем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хнологическая платформа обеспечивает различные варианты работы прикладного решения: от персонального однопользовательского, до работы в масштабах больших рабочих групп и предприятий. Ключевым моментом масштабируемости является то, что повышение производительности достигается средствами платформы, и прикладные решения не требуют доработки при увеличении количества одновременно работающих пользовате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3611f"/>
                </a:solidFill>
                <a:latin typeface="Tahoma"/>
              </a:rPr>
              <a:t>Интегр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стема 1С:Предприятие 8.0 является открытой системой. Предоставляется возможность для интеграции практически с любыми внешними программами и оборудованием на основе общепризнанных открытых стандартов и протоколов передачи данны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системе 1С:Предприятие 8.0 имеется целый набор средств, с помощью которых можно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здавать, обрабатывать и обмениваться данными различных форматов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существлять доступ ко всем объектам системы 1С:Предприятие 8.0, реализующим ее функциональные возможности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ддерживать различные протоколы обмена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ддерживать стандарты взаимодействия с другими подсистемами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здавать собственные интернет-решени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3611f"/>
                </a:solidFill>
                <a:latin typeface="Tahoma"/>
              </a:rPr>
              <a:t>Web-расшир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Web–расширение, хотя и входит с состав технологической платформы, поставляется в виде отдельного программного продукта и позволяет встраивать доступ к данным 1С:Предприятия в существующие Web-сайты и Web-приложения, а так же создавать готовые Web-приложения, использующие информационную базу 1С:Предприятия 8.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енов</cp:lastModifiedBy>
  <dcterms:modified xsi:type="dcterms:W3CDTF">2005-12-26T01:05:21Z</dcterms:modified>
  <cp:revision>15</cp:revision>
  <dc:subject/>
  <dc:title>PowerPoint Presentation</dc:title>
</cp:coreProperties>
</file>