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4EE-1D2B-49AB-A810-B3C6460B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905-FE21-4C83-BB88-1E93CF2D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08B-F485-4C28-A91F-CAF5AE2D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D98-3741-4C8D-B5D2-EE31FE44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AB2-85AC-4C1E-AE98-DA0329BF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C19-FF8D-4D46-9536-6E1D167F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AE7D-5A7B-4635-AE58-F5AFD09D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DDF-6DEA-4698-9630-425F4BF5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F67-B5EC-45A1-8078-207B3B2A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EB6-2247-44B4-ADE4-C828714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6C3-A252-418A-91A8-DDD86210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327-ACBC-40DC-9A87-C6C81A4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509C-047F-4715-9A87-4E88AE2E6D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стандарты разработки ставят своей цель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разработки типовых конфигураций для платформы «1С:Предприятие 8.0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икац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хнических решений, реализуемых в разных конфигурац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изучения и освоения типовых конфигураций партнерами и пользова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модификации и внедрения типовых конфигур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сса разработки партнерски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добавлять в поля запроса представления объектов или достаточно ссылки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сылки не достаточно. Если объект планируется выводить визуально (в отчетах, в табличных полях и т.п.) то необходимо в запросе получать представление объекта и его показывать. Показывать ссылку получится неэффективно, т.к. в этом случае система все равно по каждой ссылке лезет в базу за ее представлением, что существенно замедляет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м отличается использование внутреннего соединения с условием в операто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использования двух таблиц с условием в предлож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ичем не отличается. В типовых конфигурациях необходимо использовать внутреннее соединение (см. стандар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ограничивать выборки из виртуальных таблиц условиями в параметрах таблиц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стоит. Виртуальная таблица работает аналогично вложенному запросу, т.е. в результат вложенной таблицы попадут либо все записи, либо уже отобранные по условию в параметре таблицы. Второе оптимальнее. См. также раздел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накладывать условия по полям таблиц регистров, чтобы наилучшим образом использовать индекс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гистры накопления и регистры сведений имеют общий индекс по всем измерениям, в порядке их расположения в метаданных. Условие лучше накладывать так, чтобы оно охватывало любое колич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й регистра без пропусков. В этом случае используется индекс и отбор работает быстро. Либо условие стоит накладывать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е, имеющее инде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синхронизируются поля результатов при объединении запрос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объединении различных запросов поля синхронизируются по порядковом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мер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я в результате запроса. Совпадение полей по прикладному смыслу необходимо отслеживать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 указать итоги и по элементу и по иерархии поля типа ссылка на справочник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тоги по полю и по иерархии надо указывать отдель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рефик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,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метаданных. Правила образования имен объектов метаданных описаны в отдельном стандар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фор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управления 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фиксация переменных по типу 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мен переменных префиксы по типу значения не используются. В название переменной включается указание на тип значения для значений следующих тип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(СправочникМенеджер, СправочникСписок, СправочникОбъект, СправочникСсылка, СправочникВыбор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ерем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еременных (параметров) следует образовывать от терминов предметной области. При именовании переменных следует использовать только документированные терми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мени переменной должно быть понятно ее назнач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ледует образовывать путем «склеивания» слов - удаления пробелов между словами. Каждое от дельное слово в «склеенном» имени пишется с прописной буквы. Предлоги и местоимения из одной буквы также пишутся прописными бук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талогом -  РаботаСКатало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ачек в коробке - КоличествоПачекВКороб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роцедур (функиц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в общем случае, следует образовывать от глаголов неопределенного вида, 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веритьДублиСтрок(), неправильно ПроверкаДублей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ЗагрузитьКонтрагента(), неправильно ЗагрузкаКонтрагента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и функции должны давать представление о характере выполняемых процедурой (функцией)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хорош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ДублейСтрок(), ПодборВидаРасчета(), ИнформацияОПроводке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лох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(), Есть(), ЕщеФлажки(), НамПодходит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стандартов разработки конфигураций вырабатываются треб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ным решениям (конфигурациям, разработанным сторонними разработчиками, но распространяемым от имени формы «1С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имым решениям (конфигурациям, претендующим на получение сертификата «Совместимо! 1С:Предприятие» или аналогич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едмет стандартизаци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содержит описание использования конструкций встроенного языка в слож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ротиворечивых случа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в условиях Если… проверяется возвращаемое значение функции/метода, следует использовать точное равен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&lt;&gt; 0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= 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вместо вложенных конструкций Если...КонецЕсли конструкций типа Если...ИначеЕсли...ИначеЕсли... с «обратными» условиями, как сложные для анализа, модификации и отлад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конструк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=1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Б=2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В=3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заменена на конструк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&lt;&gt;1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Б&lt;&gt;2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В=3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роверка логических значений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функции, возвращающей логическое значение, не следует проверять путем сравнения с логической констант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= Истина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исание текстов за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ключевые слова языка запросов пишутся заглавными букв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ые конструкции запроса в типовых конфигурациях указывать обязательно. Это повышает наглядность тек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ет указание имени таблицы перед именами полей в предложении Выбрать, когда используется только одна таблица. В этом случае имя таблицы можно не указ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кста запроса должна быть иерархической, т.е. не следует писать запрос в одну строку, даже короткий. Это повышает наглядность текста запро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текст запроса составляется из нескольких частей в модуле так же рекомендуется придерживаться этого прави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спользовать синонимы полей запросов, в тех случаях, когда имя поля запроса не следует явно из имени поля таблицы. Другими словами не допускается автоматическая генерация имени поля, кроме явных случа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 допускается автоматическая генерация имени поля типа «Номенклатура1», т.е. когда имя поля запроса не уникально, ему тоже обязательно присвоить синон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 за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использования в запросе выборки из нескольких таблиц, разделенных запятыми, кроме случаев, когда другими средствами получить результат не у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соединения двух таблиц слева или справа, в текстах запросов типовых конфигураций необходимо преимущественно использовать ЛЕВОЕ ВНЕШНЕЕ СОЕДИНЕНИЕ. Использование правого соединения допускается только в тех случаях, когда левое соединение использовать невозможно или затруднитель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enov</cp:lastModifiedBy>
  <dcterms:modified xsi:type="dcterms:W3CDTF">2005-11-30T00:09:59Z</dcterms:modified>
  <cp:revision>10</cp:revision>
  <dc:subject/>
  <dc:title>PowerPoint Presentation</dc:title>
</cp:coreProperties>
</file>