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2A9-1F5B-402C-BC0B-EA7F8AC9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D55-53E4-453E-9FB8-4B4A3D3D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4A4-18C7-4E65-9BF6-4B12F916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C1E-B577-4F3C-8290-10009A70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B0D-295B-490F-A95E-CB2D7B11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CFB-1F7B-4149-98CD-EDABED28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FFA-9872-4816-89FA-929D1833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302-C893-441C-B4C4-3E06CAA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E2F-AEE9-4F21-95DC-1B007A40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BE4-1CB7-4A8A-81BF-0A94B9D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7DF-10D0-4732-8581-85C98DCE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F71-FD6A-4A1D-ACD5-D03C4A89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3D62-F1FA-4CD0-88C6-700EBEBE5F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17760" y="1981080"/>
          <a:ext cx="430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981080"/>
                    <a:ext cx="430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Период КАК Пери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Расход КАК КоличествоРасх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КонечныйОстаток КАК КоличествоКонечныйОста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(, , День, , ) КАК ОстаткиМатериаловОстаткиИОбор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, СУММА(КоличествоКонечныйОстаток)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ериод ПЕРИОДАМИ(ДЕНЬ, , 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Строки.Добавить(СводнаяТаблица.Поля.Материа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Колонки.Добавить(СводнаяТаблица.Поля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}}КОНСТРУКТОР_ВЫХОДНЫХ_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4840" y="2324160"/>
          <a:ext cx="639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24160"/>
                    <a:ext cx="639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сводная табл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сводных таб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иаграмма, серия диаграммы, точка диаграм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диа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2160" y="1981080"/>
          <a:ext cx="4278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1981080"/>
                    <a:ext cx="427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1720" y="1981080"/>
          <a:ext cx="573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981080"/>
                    <a:ext cx="573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Выборка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воднаяТаблицаВыбор(Элемент, Область, СтандартнаяОбрабо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ментНоменклатуры=Элемент.ТекущаяОбласть.Тек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бновле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чист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.Сброс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ВыборкаМатериал.Следующий()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Если ЭлементНоменклатуры&lt;&gt;ВыборкаМатериал.Материал.Наименование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= Диаграмма.УстановитьСерию("Продаж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Текст = "Продажи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 = Диаграмма.УстановитьСерию("Остат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Текст = "Остаток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Период = ВыборкаМатериал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ВыборкаПериод.Следующий()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, Серия, ВыборкаПериод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1, Серия1, ВыборкаПериод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Обновле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ФормыГрафикиСформир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ДействияФормыГрафикиСформировать(Кноп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 = ЭлементыФормы.СводнаяТаблица.ВстроенныеТаблицы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 = ЭлементыФормы.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и(СводнаяТаблица, Диаграмма, Дата1, Дата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Графики(СводнаяТаблица, Диаграмма, Дата1, Дата2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{{КОНСТРУКТОР_ВЫХОДНЫХ_ФОРМ(Граф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Данный фрагмент построен констру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При повторном использовании конструктора, внесенные вручную изменения будут утеряны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3:14Z</dcterms:modified>
  <cp:revision>12</cp:revision>
  <dc:subject/>
  <dc:title>PowerPoint Presentation</dc:title>
</cp:coreProperties>
</file>