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6C7-B2C5-4C94-B823-30578C88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178-38C6-4AD7-81E6-BBA673E6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D8B-5054-49A5-882E-8D67850A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5AD-B692-41B8-AE17-F3B80B35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4B5-056E-4483-AF02-488E1A67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B6B-3EF4-4653-8C49-84C951F1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C3E-20F3-4451-A32B-98EE638D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2FB-7A41-41E9-96F4-27FF1675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72B-F154-499B-8639-7738A744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6BD-A327-4B9A-AB46-A42E03DC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306-9D22-4367-8397-17085EC9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7F0-3795-4770-8F1A-7180A12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750E-44A7-422B-A9D9-EC109DB0BE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нос данных из 7.7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90840" y="1981080"/>
          <a:ext cx="416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981080"/>
                    <a:ext cx="416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ttribute VB_Name = "Module1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ub v8com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c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on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ЗапросВДБФ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on = cc.Connect("File=D:\Bases\Radchenko;Usr=Администратор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Запроса = "ВЫБРАТЬ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ь = "C:\1C.db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t ЗапросВДБФ = con.Обработки.ВыгрузкаДанных.Созд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ВДБФ.ВыгрузитьДанные ТекстЗапроса, П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unction v8com(TextOfQuery,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{var cc,con,text,path,Qu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c = new ActiveXObject("V8.COMConnect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on = cc.Connect("File=D:/Bases/Radchenko;Usr=Администратор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text="Выбрать Остатки.Материал.Код как kod,Остатки.Материал.Наименование как Material,Остатки.Склад как sklad,Остатки.КоличествоКонечныйОстаток как ostatok из РегистрНакопления.ОстаткиМатериалов.ОстаткиИОбороты как Остатки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ath = "C:/1C.db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=con.Обработки.ВыгрузкаДанных.Созд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.ВыгрузитьДанные(text,pa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onMouseDown="v8com('','')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align="center"&gt;&lt;font color="#FF0000"&gt;&lt;strong&gt;Click Me!!!&lt;/strong&gt;&lt;/font&gt;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@language=vbscript %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on = cc.Connect("File=C:\Bases\Radchenko;Usr=Администратор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tz = "ВЫБРАТЬ 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p = "C:\1C.db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t z = con.Processings.UnloadData.Creat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.UnloadData tz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ar xml="&lt;&gt;&lt;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Response.Write(xm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createobject("msxml.xmlhttp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.open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=x.response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V7=Новый COMОбъект("v77.Applicati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="D:\Bases\DB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ы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опы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=Справочники.Автозап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=V7.CreateObject("Справочник.Номенклатура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НайтиПоКоду("120-0000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торы=Импорт.Текущий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ИспользоватьРодителя(Амортизатор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ВыбратьЭлементы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Импорт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=Ном.Создать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Код=Импорт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Наименование=Импорт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Тип=Импорт.__Ти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зо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=Новый COMОбъект("Excel.Applicatio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Workbooks.Open("D:\Bases\AddIns\Graphics.xl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Run("Graphics.xls!Auto_Ope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Qu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стЗапроса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Mater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Склад КАК Skl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СУММА(ОстаткиМатериаловОстаткиИОбороты.КоличествоКонечныйОстаток) КАК Osta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 КАК ОстаткиМатериаловОстаткиИОбор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СГРУППИРОВА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Матери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С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УПОРЯДОЧИ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грузитьДанные(ТекстЗапроса,"C:\ost.db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ТекстЗапроса,Путь) Эк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.Текст = ТекстЗа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Новый ТаблицаЗначений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Результат.Выгруз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ф=Новый X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трока(Кол.ТипЗначения.Типы().Получить(1))="Число"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=Кол.ТипЗначения.КвалификаторыЧисла.Разряд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ДробнойЧасти=Кол.ТипЗначения.КвалификаторыЧисла.РазрядностьДробной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N",Разрядность,РазрядностьДробнойЧаст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S",Кол.Шири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Кодировка=КодировкаXBase.O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СоздатьФайл(Пу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СтрокаТабл Из Табл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Добав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[Кол.Имя]=СтрокаТабл[Кол.Имя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крытьФайл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7:46Z</dcterms:modified>
  <cp:revision>6</cp:revision>
  <dc:subject/>
  <dc:title>PowerPoint Presentation</dc:title>
</cp:coreProperties>
</file>