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65C-BC6E-4782-994E-B04FC3A2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6CF-53FD-4CA8-B45D-AB9AFF03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A41-2E9B-411B-87EE-71C8FAA4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612-15C7-4EE1-A679-2940CAFB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802-68C1-4253-B52A-46B1BD00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1536-02AD-4AF2-A55A-2F7DCA1E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571-50D1-4796-B248-8937ECB2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EBF-B8C9-4107-9C1A-13980703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C4B-D8C7-47F7-B8D8-6BA4F657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92D-EB6F-41BC-8D96-A062DCB5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E9A-6EFC-42BE-BD9E-59D3DB33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43F-F78D-49F0-AE25-8DD13620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9402-E48F-41B2-84B3-BE50344AE7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вижение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328920" y="1981080"/>
          <a:ext cx="2484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8920" y="1981080"/>
                    <a:ext cx="248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языватьСтроку(НомерСтрок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ТекущийДокумент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Количество*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При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=СоздатьОбъект("Регистр.Остатки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иче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УстановитьФильтр(Материал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ВыбратьДвижения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РегОст.ПолучитьДвижение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гОст.ФлагУчета=2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РегОст.Парт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.ПолучитьСтрокуПоНомеру(РегОст.НомерСтроки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=Регистр.Остатки.Остаток(Материал,Док,"Количество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=0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КолВо&gt;Кол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Во-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Д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Списать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СписатьКоличество*Док.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Рас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Во=0 Тогда Прервать; 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явно указать нужную да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20050308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1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, 10, 29, 50) ДАТАВРЕМЯ(2005, 01, 0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оверить дату на пустое знач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атаПроверяемая = Дата(1, 1, 1) Тогда Сообщить("Пустая дата!"); 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сравнить две даты (дни)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НачалоДня(Дата1) = НачалоДня(Дата2) Тогда Сообщить("Дни совпадают!"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ибавить к дате день, месяц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ующийДень = ТекущаяДата() + 60 * 60 * 24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Месяц(Дата(2005, 1, 31), 1) ДобавитьМесяц(Дата(2005, 2, 28), -1) КонецМесяца(ДобавитьМесяц(Дата(2005, 2, 28), -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ПолучитьДень(ИсходнаяДата, КоличествоПрибавляемыхДней) Запрос = НовыйЗапрос(" |ВЫБРАТЬ |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ОБАВИТЬКДАТЕ(&amp;ИсходнаяДата, ДЕНЬ, &amp;Количество) как Дата"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ИсходнаяДата", ИсходнаяДата); Запрос.УстановитьПараметр("Количество", КоличествоПрибавляемыхДней); ВозвратЗапрос.Выполнить().Выгрузить()[0].Дат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ртии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376360" y="1981080"/>
          <a:ext cx="43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981080"/>
                    <a:ext cx="43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ка тип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можно проверить тип значения переменной на равенство нужному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яНужногоТипа = "ДокументСсылка.РеализацияТоваров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ТипЗнч(ОбрабатываемыйДокумент) = Тип(ИмяНужногоТипа)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 Строки кода, выполняемые при истинности услов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устая ссылк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реквизит формы, имеющий ссылочный ти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 = Справочники.Номенклатура.ПустаяСсылка(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значение, имеющее тип "Хранилище значения"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визитХранилище = Неопределен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ление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ого 10 мониторов на сумму 1500+1550=305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ход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но 7 мониторов по розничной цене 3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умму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45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* 300 + 2 * 31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2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2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3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о средн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редняя це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0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10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5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05 * 7 =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35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35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15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определить справоч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Единицы измерения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 «Приход», «Расх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регистр остатков «Остат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гистр «Остат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16000" y="1916280"/>
          <a:ext cx="712800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1280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1773360"/>
          <a:ext cx="68407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6840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42920" y="1773360"/>
          <a:ext cx="68421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68421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9:29Z</dcterms:modified>
  <cp:revision>19</cp:revision>
  <dc:subject/>
  <dc:title>PowerPoint Presentation</dc:title>
</cp:coreProperties>
</file>