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E91-3511-4644-A01D-C2BC8CAD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35B-D79F-4D7B-81C7-53043765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3BD-1C59-44CB-B65A-3991F6B7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EA3-1E57-48BD-A2AE-4C2AED9D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47B-41D9-4684-81F8-748AED32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C9D-F238-40D7-987C-C6D5DF59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185-11C1-46B7-A6FF-978B1364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ABD-4C75-4A31-9DEE-C623469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45A-D3C4-4180-9A13-43CE4944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B98-B6B5-4716-A513-7C844736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731-7D76-4ADE-9540-F99937C4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FA1-5CF6-4B03-8FAF-A125139F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84E7-D63E-4970-98B4-2599F4022C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 программ "1С:Предприятие" предназначена для решения широкого спектра задач автоматизации учета и управления, стоящих перед динамично развивающимися современными предприят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1С:Предприятие" представляет собой систему прикладных решений, построенных по единым принципам и на единой технологической платформе. Руководитель может выбрать решение, которое соответствует актуальным потребностям предприятия и будет в дальнейшем развиваться по мере роста предприятия или расширения задач автомат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м факто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1 * 2 * 3 * … * (N-1) *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N * (N-1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!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ть программу вычисления фактори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 язы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цедура &lt;?&gt;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&lt;Имя_проц&gt;([[Знач] &lt;Парам1&gt;[=&lt;ДефЗнач&gt;]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,[Знач] &lt;ПарамN&gt;[=&lt;ДефЗнач&gt;]])[Экспорт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[Возврат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я &lt;?&gt;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врат ??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&lt;Имя_функции&gt;([[Знач] &lt;Парам1&gt;[=&lt;ДефЗнач&gt;], ... ,[Знач] &lt;ПарамN&gt;[=&lt;ДефЗнач&gt;]])[Экспорт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&lt;ВозвращаемоеЗначение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&lt;?&gt; 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&lt;Логическое_выражение&gt;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Факт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N&gt;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(N*Факт(N-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Факт(Параметр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программу для вывода на экран всех документов, подчиненных данному докумен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окумент2 считается подчиненным документу1, если в документе2 имеется реквизит, значение которого является ссылкой на документ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чиненные 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98680" y="1981080"/>
          <a:ext cx="6146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981080"/>
                    <a:ext cx="6146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 &lt;?&gt; 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&lt;Логическое_выражение&gt;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ПолучитьДокумент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Документ – реквизит формы, содержащий документ, для которого нужно найти подчиненные докуме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м Дерев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олучитьПодчиненные(ТекДо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=1 Тог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Дерево+"/"+ТекДок.Вид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Дерево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ка Докум.ПолучитьДокумент()=1 Цик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.ТекущийДокумент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ент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актуальных задач учета и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, специализированные и индивидуальные ре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ерывное развити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отдельных задач и комплексная автомат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хнологическая платфо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и сервис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С:Предприятие 8.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1С:Предприятие 8.0 имеет в своей основе ряд механизмов, определяющих концепцию создания прикладных решений. Наличие этих механизмов позволяет максимально соотнести технологические возможности с бизнес-схемой разработки и внедрения прикладных ре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ключевых моментов можно выделить изоляцию разработчика от технологических подробностей, алгоритмическое программирование только бизнес-логики приложения, использование собственной модели базы данных и масштабируемость прикладных решений без их дорабо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Приклад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ав прикладных механизмов 1С:Предприятия ориентирован на решение задач автоматизации учета и управления предприятием. Использование проблеммно-ориентированных объектов позволяет разработчику решать самый широкий круг задач складского, бухгалтерского, управленческого учета, расчета зарплаты, анализа данных и управления на уровне бизнес-процес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рфейс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1С:Предприятии 8.0 реализован современный дизайн интерфейса и повышена комфортность работы пользователей при работе с системой в течение длительного време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Масштабиру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ческая платформа обеспечивает различные варианты работы прикладного решения: от персонального однопользовательского, до работы в масштабах больших рабочих групп и предприятий. Ключевым моментом масштабируемости является то, что повышение производительности достигается средствами платформы, и прикладные решения не требуют доработки при увеличении количества одновременно работающих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г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1С:Предприятие 8.0 является открытой системой. Предоставляется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истеме 1С:Предприятие 8.0 имеется целый набор средств, с помощью которых мож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, обрабатывать и обмениваться данными различных форма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ть доступ ко всем объектам системы 1С:Предприятие 8.0, реализующим ее функциональные возможно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различные протоколы обмен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стандарты взаимодействия с другими подсистема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 собственные интернет-реш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Web-расши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eb–расширение, хотя и входит с состав технологической платформы, поставляется в виде отдельного программного продукта и позволяет встраивать доступ к данным 1С:Предприятия в существующие Web-сайты и Web-приложения, а так же создавать готовые Web-приложения, использующие информационную базу 1С:Предприятия 8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5:21Z</dcterms:modified>
  <cp:revision>15</cp:revision>
  <dc:subject/>
  <dc:title>PowerPoint Presentation</dc:title>
</cp:coreProperties>
</file>