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A38-3700-4BC5-BF7F-E0921310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0B8-9C10-4FDF-8F2C-42982812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A10-D672-423C-8990-8289A1A7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5C0-8A0A-4BBA-8196-B0187C64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3A0-26CE-43F0-BBFC-D2BD1165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8F7-712F-472A-A9C7-D6B38910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CFD-085D-47FA-96DE-5DC9B3B0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EEE-C156-4931-A169-E2833B27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154-C6BC-4F6D-AD85-37E26E45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035-B200-4D96-B1B6-8D24DED1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C56-9EE4-4142-9E0B-18D33B7F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6E9-C16A-46A4-BA5C-88D8B6E1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A1A6-FC19-4351-8DD3-BE20990AAF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2133720"/>
          <a:ext cx="532944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133720"/>
                    <a:ext cx="53294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2000" y="1981080"/>
          <a:ext cx="7018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81080"/>
                    <a:ext cx="7018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35280" y="2205000"/>
          <a:ext cx="5257800" cy="29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5000"/>
                    <a:ext cx="5257800" cy="29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ivate Sub CommandButton1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cols = Cells(3, 1).CurrentRegion.Column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 Field:=ncols, Criteria1:="&lt;&gt;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nrows = Cells(3, 1).CurrentRegion.Row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3 To n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f Not (Rows(i).Hidde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ws("3:" &amp; Format(n))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lear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1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1 T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5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Çàêàç.x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ÏóòüÈìÿ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lection.Auto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b ОткрытьПрасЛист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On Error GoTo 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0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ÏóòüÈì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hDir ThisWorkbook.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sgBox "Íàæìèòå ÎÊ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ThisWorkbook.Path &amp; "\Шаблон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orkbooks("Tovar0.xls")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ThisWorkbook.Path &amp; "\Tovar.xls"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xit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rr: MsgBox ("Tovar.xls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6040" y="1981080"/>
          <a:ext cx="7711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981080"/>
                    <a:ext cx="7711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90680" y="2066760"/>
          <a:ext cx="456264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66760"/>
                    <a:ext cx="45626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1320" y="2004840"/>
          <a:ext cx="45813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2004840"/>
                    <a:ext cx="45813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СоздатьОбъект("Документ.Перемещение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мещаетсяНаПолке=ПолучитьПомещаетсяНаПолке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инимальныйОстатокРасчетный=ПолучитьМинимальныйОстаток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ДолжноБыть=Макс(МинимальныйОстатокРасчетный,ПомещаетсяНаПолк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ребуетсяПереместитьВШтуках=ДолжноБыть-ОстатокК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773360"/>
          <a:ext cx="74880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488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86080" y="1981080"/>
          <a:ext cx="4371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1981080"/>
                    <a:ext cx="4371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на филиа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90680" y="2023920"/>
          <a:ext cx="45626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23920"/>
                    <a:ext cx="45626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ТребуетсяПереместитьВШтуках&gt;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Упаковках=Цел((ТребуетсяПереместитьВШтуках-1)/КолВоВУпаковке)+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Штуках=ПотребностьВУпаковках * КолВоВУпаковк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Куда&lt;МинимальныйОстатокРасчетный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+ ОстатокКуда&lt;=ПомещаетсяНаПолке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ныйОстаток=ПомещаетсяНаПолке-МинимальныйОстатокРасчетны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вободныйОстаток&gt;0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/ СвободныйОстаток &gt; 0.5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3040" y="1981080"/>
          <a:ext cx="6397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981080"/>
                    <a:ext cx="6397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03280" y="1844640"/>
          <a:ext cx="6048360" cy="38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604836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92360" y="1844640"/>
          <a:ext cx="5472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547200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03480" y="1981080"/>
          <a:ext cx="6735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1981080"/>
                    <a:ext cx="6735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7:09Z</dcterms:modified>
  <cp:revision>7</cp:revision>
  <dc:subject/>
  <dc:title>PowerPoint Presentation</dc:title>
</cp:coreProperties>
</file>