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284-BAFB-49A8-A2F7-70CBC65F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D5B-EF99-4347-9DF8-3BE16229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00A-D870-49E6-BC18-E509CFBC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F1E-5CDC-4A26-B943-620F0F35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C4B-40FA-4B05-B151-6A47DAF5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F26-5676-4573-8BF8-A4B5294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A10-7C1C-42DA-BE79-6E1AFCF2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BB9-6BF5-4BD5-9140-79A2A00D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802-7819-42AA-A99A-FB4229B7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1BF-768E-45B9-8AAB-20006FB3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75F-2354-402E-82DE-D0BF5E6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59B-3B10-4BE1-9E6A-7B1A5E19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5B49-CF70-4D9E-AA7B-0D166D78E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одные данны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равочник 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умент «Расходная» с табличной частью: «Материал», «Количе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бороты(&amp;НачПериода, &amp;КонПериода, Неделя, ) КАК ОстаткиМатериаловОбо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ериод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КонПериода", Кон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НачПериода", Нач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ь резуль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ТекущаяДат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ДобавитьМесяц(ДТ,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колонку в таблицу знач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строку в таблицу значений и установить значение колон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связать сводную таблицу и результат запрос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уется получи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ет «Продаж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: «НачДата», «КонДа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4038480"/>
          <a:ext cx="647712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47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унк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 «ДобавитьМесяц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ДобавитьМесяц(ДТ,1), где ДТ-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Таблицу знач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=СоздатьОбъект(«ТаблицаЗначений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ДобавитьКолонку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НоваяСтрока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ПолучитьЗначение(НомСтр,НомК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НомКол,Зна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НомерМесяца(НачПериода,КонПери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НачПери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ДТ&lt;=КонПериода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Т=ДобавитьМесяц(ДТ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НомерМесяца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омерМеся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Мес=НомерМесяца(НачДата,КонДа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СоздатьОбъект("ТаблицаЗначений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.НоваяКолонка("Материал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нд=1 По КолМес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абл.НоваяКолонка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Период С НачДата По КонД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ОбрабатыватьДокументы Проведен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Материал=Документ.Расход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атаДок=Документ.Расход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Количество=Документ.Расход.Количе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ок=Документ.Расход.ТекущийДоку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Материал Без Груп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Функция РасхКол=Сумма(Количество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Материал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НоваяСтрока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НомСтр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Материал=Запрос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нд=2 По КолМес+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инд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Док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Док=Запрос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омКол=НомерМесяца(НачДата,ДатаДок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УстановитьЗначение(НомСтр,НомКол+1,Табл.ПолучитьЗначение(НомСтр,НомКол+1)+Запрос.РасхКо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ВыбратьСтроку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Продажи(СводнаяТаблица, КонПериода, НачПериода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Материал КАК Матери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КоличествоРасход КАК КоличествоРасхо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Период КАК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5:48:31Z</dcterms:created>
  <dc:creator>guest</dc:creator>
  <dc:description/>
  <dc:language>en-US</dc:language>
  <cp:lastModifiedBy>Семенов</cp:lastModifiedBy>
  <dcterms:modified xsi:type="dcterms:W3CDTF">2005-12-26T01:20:41Z</dcterms:modified>
  <cp:revision>17</cp:revision>
  <dc:subject/>
  <dc:title>Постановка задачи</dc:title>
</cp:coreProperties>
</file>