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8827-4D44-4887-8191-67A2A9996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01D3-74A6-41D5-84CE-8E2EC28A6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D6D9-858E-47FB-9B0B-EDCFD6CBE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A7BF-332F-4FB0-B432-CFF497171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66AA-6D35-4EF3-8A54-52D9B8A76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A70B-FD90-425D-906B-52C3AF6FA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E40E-27CE-4F89-BF13-7CD86A504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CA58-01C9-4344-B546-98A62A350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EDD6-833E-48F0-8FF0-203312EF2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911D-489C-4366-BD4E-2DFE4745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9DC4-AA32-4F62-9067-79366CFB8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6A79-5021-4E3F-843D-1750B089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5FC00-F8D2-4CA3-A998-7B22A69332B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еренос данных из 7.7 в 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490840" y="1981080"/>
          <a:ext cx="41608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90840" y="1981080"/>
                    <a:ext cx="41608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бращение к 1С из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c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Attribute VB_Name = "Module1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Sub v8com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Dim cc As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Dim con As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Dim ЗапросВДБФ As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Set cc = CreateObject("V8.COMConnector"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Set con = cc.Connect("File=D:\Bases\Radchenko;Usr=Администратор"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бращение к 1С из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c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кстЗапроса = "ВЫБРАТЬ 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ОстаткиМатериаловОстаткиИОбороты.Материал.Код КАК Kod,ОстаткиМатериаловОстаткиИОбороты.Материал.Наименование КАК Material,ОстаткиМатериаловОстаткиИОбороты.Склад КАК Sklad,ОстаткиМатериаловОстаткиИОбороты.КоличествоКонечныйОстаток КАК Ostatok ИЗ РегистрНакопления.ОстаткиМатериалов.ОстаткиИОбороты КАК ОстаткиМатериаловОстаткиИОбороты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уть = "C:\1C.dbf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Set ЗапросВДБФ = con.Обработки.ВыгрузкаДанных.Создать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просВДБФ.ВыгрузитьДанные ТекстЗапроса, Пу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End S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бращение к 1С через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lt;!DOCTYPE HTML PUBLIC "-//W3C//DTD HTML 4.01 Transitional//EN"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lt;html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lt;head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lt;title&gt;v8com&lt;/title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lt;meta http-equiv="Content-Type" content="text/html; charset=windows-1251"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lt;script language="JavaScript"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function v8com(TextOfQuery,Path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{var cc,con,text,path,Query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бращение к 1С через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cc = new ActiveXObject("V8.COMConnector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con = cc.Connect("File=D:/Bases/Radchenko;Usr=Администратор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text="Выбрать Остатки.Материал.Код как kod,Остатки.Материал.Наименование как Material,Остатки.Склад как sklad,Остатки.КоличествоКонечныйОстаток как ostatok из РегистрНакопления.ОстаткиМатериалов.ОстаткиИОбороты как Остатки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path = "C:/1C.dbf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Query=con.Обработки.ВыгрузкаДанных.Создать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Query.ВыгрузитьДанные(text,path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бращение к 1С через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scrip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head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iv onMouseDown="v8com('','')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iv align="center"&gt;&lt;font color="#FF0000"&gt;&lt;strong&gt;Click Me!!!&lt;/strong&gt;&lt;/font&gt;&lt;/div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div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htm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ault.as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%@language=vbscript %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!DOCTYPE HTML PUBLIC "-//W3C//DTD HTML 4.01 Transitional//EN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htm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head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title&gt;v8com&lt;/titl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meta http-equiv="Content-Type" content="text/html; charset=windows-1251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/head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ault.as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Dim 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Dim c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Dim z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Set cc = CreateObject("V8.COMConnector"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Set con = cc.Connect("File=C:\Bases\Radchenko;Usr=Администратор"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tz = "ВЫБРАТЬ ОстаткиМатериаловОстаткиИОбороты.Материал.Код КАК Kod,ОстаткиМатериаловОстаткиИОбороты.Материал.Наименование КАК Material,ОстаткиМатериаловОстаткиИОбороты.Склад КАК Sklad,ОстаткиМатериаловОстаткиИОбороты.КоличествоКонечныйОстаток КАК Ostatok ИЗ РегистрНакопления.ОстаткиМатериалов.ОстаткиИОбороты КАК ОстаткиМатериаловОстаткиИОбороты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p = "C:\1C.dbf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Set z = con.Processings.UnloadData.Creat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z.UnloadData tz, 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var xml="&lt;&gt;&lt;&gt;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Response.Write(xml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ault.as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=createobject("msxml.xmlhttp"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.open(ur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=x.responsebo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br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/body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/html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ешение 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цедура КнопкаВыполнитьНажатие(Элемент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V7=Новый COMОбъект("v77.Application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уть="D:\Bases\DB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пыт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крыта=v7.Initialize(v7.RMTrade,"/d"+Путь+" /M /N"+"","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ключ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упреждение("Ошибка открытия информационной базы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зврат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цПопытк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ешение 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м=Справочники.Автозапчаст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мпорт=V7.CreateObject("Справочник.Номенклатура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мпорт.НайтиПоКоду("120-00000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мортизаторы=Импорт.ТекущийЭлемент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мпорт.ИспользоватьРодителя(Амортизаторы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мпорт.ВыбратьЭлементы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ка Импорт.ПолучитьЭлемент()=1 Цик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пр=Ном.СоздатьЭлемент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пр.Код=Импорт.Код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пр.Наименование=Импорт.Наименование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пр.Тип=Импорт.__Тип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пр.Записать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ызов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c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цедура КнопкаВыполнитьНажатие(Элемент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xcel=Новый COMОбъект("Excel.Application"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xcel.Workbooks.Open("D:\Bases\AddIns\Graphics.xls"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xcel.Application.Run("Graphics.xls!Auto_Open"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xcel.Application.Quit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ыгрузка данных в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b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цедура КнопкаВыполнитьНажатие(Элемент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екстЗапроса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"ВЫБРА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ОстаткиМатериаловОстаткиИОбороты.Материал КАК Material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ОстаткиМатериаловОстаткиИОбороты.Склад КАК Skla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СУММА(ОстаткиМатериаловОстаткиИОбороты.КоличествоКонечныйОстаток) КАК Ostat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|И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РегистрНакопления.ОстаткиМатериалов.ОстаткиИОбороты КАК ОстаткиМатериаловОстаткиИОборот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ыгрузка данных в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b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|СГРУППИРОВАТЬ П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таткиМатериаловОстаткиИОбороты.Материал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таткиМатериаловОстаткиИОбороты.Скла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|УПОРЯДОЧИТЬ П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Material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Skl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|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грузитьДанные(ТекстЗапроса,"C:\ost.dbf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оцедура ВыгрузитьДанные(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цедура ВыгрузитьДанные(ТекстЗапроса,Путь) Экспор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прос = Новый Запрос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прос.Текст = ТекстЗапрос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зультат = Запрос.Выполнить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бл=Новый ТаблицаЗначений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бл=Результат.Выгрузить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бф=Новый Xbas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оцедура ВыгрузитьДанные(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Каждого Кол Из Табл.Колонки Цик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Строка(Кол.ТипЗначения.Типы().Получить(1))="Число" Тог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рядность=Кол.ТипЗначения.КвалификаторыЧисла.Разрядность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рядностьДробнойЧасти=Кол.ТипЗначения.КвалификаторыЧисла.РазрядностьДробнойЧаст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бф.Поля.Добавить(Кол.Имя,"N",Разрядность,РазрядностьДробнойЧасти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ач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бф.Поля.Добавить(Кол.Имя,"S",Кол.Ширина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оцедура ВыгрузитьДанные(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бф.Кодировка=КодировкаXBase.OE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бф.СоздатьФайл(Путь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Каждого СтрокаТабл Из Табл Цик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бф.Добавить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Каждого Кол Из Табл.Колонки Цик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бф[Кол.Имя]=СтрокаТабл[Кол.Имя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бф.Записать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бф.ЗакрытьФайл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менов</cp:lastModifiedBy>
  <dcterms:modified xsi:type="dcterms:W3CDTF">2005-12-26T01:17:46Z</dcterms:modified>
  <cp:revision>6</cp:revision>
  <dc:subject/>
  <dc:title>PowerPoint Presentation</dc:title>
</cp:coreProperties>
</file>