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C230-25C1-44C2-BE46-A510E07D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347-F730-44D1-985D-3C1695CE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D85-F478-438E-85A3-A320B453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102B-319D-467C-8AB5-60BD835E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E89-1728-4A1B-A498-73DC2F40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2440-9325-4178-80CA-D56E0C92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C99-DB1A-457C-814D-372DDC96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A56D-65D8-4B71-A9F1-3ADC8F98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365-0875-4651-A28C-CBAFF510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4855-5285-4274-9041-F1885109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A1D0-42EA-473D-B557-AF507D15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521-9FB5-447E-B89A-5606A4F5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8FD4-DC80-4F7C-8E62-05AEBFB8D0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а копирования справочников возникает тогда, когда нужно перенести заполненный сведениями справочник из одной базы данных в другую с сохранением структуры справоч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тьОбъект(&lt;?&gt;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тьОбъект(&lt;ИмяАгрегатногоТипа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ет объект агрегатного типа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щает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сылку на созданный объект агрегатного типа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ИмяАгрегатногоТипа&gt; - строковое выражение, содержащее имя агрегатного типа данных объявленного в конфигурато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=СоздатьОбъект(«Справочник.Номенклатура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братьЭлементы(&lt;?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ратьЭлементы(&lt;Режим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ть выборку элементов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: 1 - если действие выполнено и в выборке есть хотя бы один элемен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если действие не выполнено или в выборке нет ни одного элемен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Режим&gt; - как выбир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- выбирать элементы с учетом иерарх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выбирать элементы без учета иерархии (необязателен, по умолчанию -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.ВыбратьЭлементы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учитьЭлемент(&lt;?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Элемент(&lt;Режим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 из выборки следующий элемент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: 1 - если элемент выбран, 0 - если элемент не выбра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Режим&gt; - что выбир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- включать в выборку подчиненные элемент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не включать в выборку подчиненные элементы (необязателен, по умолчанию -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Ном.ПолучитьЭлемент()=1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ерат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тьРодителя(&lt;?&gt;,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Родителя(&lt;Родитель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ить выборку  элементов по группе справоч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щает: значение текущей группы для справочника (на момент до исполнения метод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.ИспользоватьРодителя(Ном.ТекущийЭлемент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аяГруппа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аяГруппа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бавить новую группу справоч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м.НоваяГруппа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й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бавить новый элемент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.Новый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Группа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Группа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 флаг группы: 1 - если элемент является группой, 0 - если это обычный элемен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Ном.ЭтоГруппа()=1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ис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ать (обновить) элемент справочн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меч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этот метод применяется в Модуле формы элемента справочника непосредственно к элементу справочника локального контекста, то данный метод отрабатывает те же действия, что и интерактивное нажатие пользователем кнопки с формулой ''#Записать''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.Запис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хема решения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600280" y="1981080"/>
          <a:ext cx="3941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0280" y="1981080"/>
                    <a:ext cx="3941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дура Выполнить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уда=СоздатьОбъект("Справочник.Номенклатура")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тестирования в одной баз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=СоздатьОбъект("Справочник.Номенклатура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v7=СоздатьОбъект("v77.Applicatio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ь="c:\"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Задать путь откуда копиру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та=v7.Initialize(v7.RMTrade,"/d"+Путь+" /M /N"+"","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ткрыта=0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упреждение("Ошибка открытия информационной баз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уда=v7.CreateObject("Справочник.Материал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=СоздатьОбъект("Справочник.Материал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уда.ВыбратьЭлементы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Откуда.ПолучитьЭлемент()=1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КодРодителя=Откуда.ТекущийЭлемент().Родитель.К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Если Куда.НайтиПоКоду(КодРодителя,0)=1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Куда.ИспользоватьРодителя(Куда.ТекущийЭлемент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да.ИспользоватьРодителя("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84360" y="2624040"/>
            <a:ext cx="7703640" cy="2003400"/>
            <a:chOff x="684360" y="2624040"/>
            <a:chExt cx="7703640" cy="2003400"/>
          </a:xfrm>
        </p:grpSpPr>
        <p:cxnSp>
          <p:nvCxnSpPr>
            <p:cNvPr id="45" name="_s7192"/>
            <p:cNvCxnSpPr>
              <a:stCxn id="46" idx="0"/>
              <a:endCxn id="47" idx="2"/>
            </p:cNvCxnSpPr>
            <p:nvPr/>
          </p:nvCxnSpPr>
          <p:spPr>
            <a:xfrm flipV="1" rot="16200000">
              <a:off x="719280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7190"/>
            <p:cNvCxnSpPr>
              <a:stCxn id="49" idx="0"/>
              <a:endCxn id="47" idx="2"/>
            </p:cNvCxnSpPr>
            <p:nvPr/>
          </p:nvCxnSpPr>
          <p:spPr>
            <a:xfrm flipH="1" flipV="1" rot="5400000">
              <a:off x="640044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7188"/>
            <p:cNvCxnSpPr>
              <a:stCxn id="51" idx="0"/>
              <a:endCxn id="52" idx="2"/>
            </p:cNvCxnSpPr>
            <p:nvPr/>
          </p:nvCxnSpPr>
          <p:spPr>
            <a:xfrm flipV="1" rot="16200000">
              <a:off x="3630240" y="308880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7186"/>
            <p:cNvCxnSpPr>
              <a:stCxn id="54" idx="0"/>
              <a:endCxn id="52" idx="2"/>
            </p:cNvCxnSpPr>
            <p:nvPr/>
          </p:nvCxnSpPr>
          <p:spPr>
            <a:xfrm flipV="1">
              <a:off x="295308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7184"/>
            <p:cNvCxnSpPr>
              <a:stCxn id="56" idx="0"/>
              <a:endCxn id="52" idx="2"/>
            </p:cNvCxnSpPr>
            <p:nvPr/>
          </p:nvCxnSpPr>
          <p:spPr>
            <a:xfrm flipH="1" flipV="1" rot="5400000">
              <a:off x="2046960" y="30891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7181"/>
            <p:cNvCxnSpPr>
              <a:stCxn id="47" idx="0"/>
              <a:endCxn id="58" idx="2"/>
            </p:cNvCxnSpPr>
            <p:nvPr/>
          </p:nvCxnSpPr>
          <p:spPr>
            <a:xfrm flipV="1" rot="16200000">
              <a:off x="5609160" y="2007360"/>
              <a:ext cx="229320" cy="2375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7180"/>
            <p:cNvCxnSpPr>
              <a:stCxn id="52" idx="0"/>
              <a:endCxn id="58" idx="2"/>
            </p:cNvCxnSpPr>
            <p:nvPr/>
          </p:nvCxnSpPr>
          <p:spPr>
            <a:xfrm flipH="1" flipV="1" rot="5400000">
              <a:off x="3630600" y="24033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" name="_s717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7177"/>
            <p:cNvSpPr/>
            <p:nvPr/>
          </p:nvSpPr>
          <p:spPr>
            <a:xfrm>
              <a:off x="216684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_s7178"/>
            <p:cNvSpPr/>
            <p:nvPr/>
          </p:nvSpPr>
          <p:spPr>
            <a:xfrm>
              <a:off x="61264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7183"/>
            <p:cNvSpPr/>
            <p:nvPr/>
          </p:nvSpPr>
          <p:spPr>
            <a:xfrm>
              <a:off x="68436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7185"/>
            <p:cNvSpPr/>
            <p:nvPr/>
          </p:nvSpPr>
          <p:spPr>
            <a:xfrm>
              <a:off x="226764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_s7187"/>
            <p:cNvSpPr/>
            <p:nvPr/>
          </p:nvSpPr>
          <p:spPr>
            <a:xfrm>
              <a:off x="385128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_s7189"/>
            <p:cNvSpPr/>
            <p:nvPr/>
          </p:nvSpPr>
          <p:spPr>
            <a:xfrm>
              <a:off x="543492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_s7191"/>
            <p:cNvSpPr/>
            <p:nvPr/>
          </p:nvSpPr>
          <p:spPr>
            <a:xfrm>
              <a:off x="701820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625 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ткуда.ТекущийЭлемент().ЭтоГруппа()=1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оваяГруппа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Код=Откуда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аименование=Откуда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овый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Код=Откуда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аименование=Откуда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Реквизи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Записа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дите пример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объе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791880" y="2624040"/>
            <a:ext cx="1488240" cy="1143000"/>
            <a:chOff x="3791880" y="2624040"/>
            <a:chExt cx="1488240" cy="1143000"/>
          </a:xfrm>
        </p:grpSpPr>
        <p:cxnSp>
          <p:nvCxnSpPr>
            <p:cNvPr id="62" name="_s9227"/>
            <p:cNvCxnSpPr>
              <a:stCxn id="63" idx="0"/>
              <a:endCxn id="64" idx="2"/>
            </p:cNvCxnSpPr>
            <p:nvPr/>
          </p:nvCxnSpPr>
          <p:spPr>
            <a:xfrm flipV="1">
              <a:off x="4536360" y="30805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4" name="_s9228"/>
            <p:cNvSpPr/>
            <p:nvPr/>
          </p:nvSpPr>
          <p:spPr>
            <a:xfrm>
              <a:off x="3890880" y="2624040"/>
              <a:ext cx="129060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9229"/>
            <p:cNvSpPr/>
            <p:nvPr/>
          </p:nvSpPr>
          <p:spPr>
            <a:xfrm>
              <a:off x="3791880" y="3309840"/>
              <a:ext cx="148824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793320" y="2624040"/>
            <a:ext cx="1485360" cy="2003400"/>
            <a:chOff x="3793320" y="2624040"/>
            <a:chExt cx="1485360" cy="2003400"/>
          </a:xfrm>
        </p:grpSpPr>
        <p:cxnSp>
          <p:nvCxnSpPr>
            <p:cNvPr id="67" name="_s11273"/>
            <p:cNvCxnSpPr>
              <a:stCxn id="68" idx="0"/>
              <a:endCxn id="69" idx="2"/>
            </p:cNvCxnSpPr>
            <p:nvPr/>
          </p:nvCxnSpPr>
          <p:spPr>
            <a:xfrm flipH="1" flipV="1" rot="5400000">
              <a:off x="4421520" y="38800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1275"/>
            <p:cNvCxnSpPr>
              <a:stCxn id="69" idx="0"/>
              <a:endCxn id="71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1127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_s11277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1279"/>
            <p:cNvSpPr/>
            <p:nvPr/>
          </p:nvSpPr>
          <p:spPr>
            <a:xfrm>
              <a:off x="3894480" y="3995640"/>
              <a:ext cx="12823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062880" y="2624040"/>
            <a:ext cx="2944440" cy="2003400"/>
            <a:chOff x="3062880" y="2624040"/>
            <a:chExt cx="2944440" cy="2003400"/>
          </a:xfrm>
        </p:grpSpPr>
        <p:cxnSp>
          <p:nvCxnSpPr>
            <p:cNvPr id="74" name="_s12296"/>
            <p:cNvCxnSpPr>
              <a:stCxn id="75" idx="0"/>
              <a:endCxn id="76" idx="2"/>
            </p:cNvCxnSpPr>
            <p:nvPr/>
          </p:nvCxnSpPr>
          <p:spPr>
            <a:xfrm flipV="1" rot="16200000">
              <a:off x="4815720" y="3486600"/>
              <a:ext cx="229320" cy="788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2297"/>
            <p:cNvCxnSpPr>
              <a:stCxn id="78" idx="0"/>
              <a:endCxn id="76" idx="2"/>
            </p:cNvCxnSpPr>
            <p:nvPr/>
          </p:nvCxnSpPr>
          <p:spPr>
            <a:xfrm flipH="1" flipV="1" rot="5400000">
              <a:off x="4026600" y="3485160"/>
              <a:ext cx="229320" cy="791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2299"/>
            <p:cNvCxnSpPr>
              <a:stCxn id="76" idx="0"/>
              <a:endCxn id="80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_s12300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2301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12303"/>
            <p:cNvSpPr/>
            <p:nvPr/>
          </p:nvSpPr>
          <p:spPr>
            <a:xfrm>
              <a:off x="30628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12304"/>
            <p:cNvSpPr/>
            <p:nvPr/>
          </p:nvSpPr>
          <p:spPr>
            <a:xfrm>
              <a:off x="46422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273400" y="2624040"/>
            <a:ext cx="4523400" cy="2003400"/>
            <a:chOff x="2273400" y="2624040"/>
            <a:chExt cx="4523400" cy="2003400"/>
          </a:xfrm>
        </p:grpSpPr>
        <p:cxnSp>
          <p:nvCxnSpPr>
            <p:cNvPr id="83" name="_s13319"/>
            <p:cNvCxnSpPr>
              <a:stCxn id="84" idx="0"/>
              <a:endCxn id="85" idx="2"/>
            </p:cNvCxnSpPr>
            <p:nvPr/>
          </p:nvCxnSpPr>
          <p:spPr>
            <a:xfrm flipV="1" rot="16200000">
              <a:off x="5210640" y="3091680"/>
              <a:ext cx="229320" cy="1578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3320"/>
            <p:cNvCxnSpPr>
              <a:stCxn id="87" idx="0"/>
              <a:endCxn id="85" idx="2"/>
            </p:cNvCxnSpPr>
            <p:nvPr/>
          </p:nvCxnSpPr>
          <p:spPr>
            <a:xfrm flipH="1" flipV="1" rot="5400000">
              <a:off x="4421520" y="38800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13321"/>
            <p:cNvCxnSpPr>
              <a:stCxn id="89" idx="0"/>
              <a:endCxn id="85" idx="2"/>
            </p:cNvCxnSpPr>
            <p:nvPr/>
          </p:nvCxnSpPr>
          <p:spPr>
            <a:xfrm flipH="1" flipV="1" rot="5400000">
              <a:off x="3632040" y="3090600"/>
              <a:ext cx="229320" cy="1581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13323"/>
            <p:cNvCxnSpPr>
              <a:stCxn id="85" idx="0"/>
              <a:endCxn id="91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13324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_s13325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13327"/>
            <p:cNvSpPr/>
            <p:nvPr/>
          </p:nvSpPr>
          <p:spPr>
            <a:xfrm>
              <a:off x="22734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_s13328"/>
            <p:cNvSpPr/>
            <p:nvPr/>
          </p:nvSpPr>
          <p:spPr>
            <a:xfrm>
              <a:off x="385272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_s13329"/>
            <p:cNvSpPr/>
            <p:nvPr/>
          </p:nvSpPr>
          <p:spPr>
            <a:xfrm>
              <a:off x="54316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19320" y="2624040"/>
            <a:ext cx="4833720" cy="2003400"/>
            <a:chOff x="2119320" y="2624040"/>
            <a:chExt cx="4833720" cy="2003400"/>
          </a:xfrm>
        </p:grpSpPr>
        <p:cxnSp>
          <p:nvCxnSpPr>
            <p:cNvPr id="94" name="_s14343"/>
            <p:cNvCxnSpPr>
              <a:stCxn id="95" idx="0"/>
              <a:endCxn id="96" idx="2"/>
            </p:cNvCxnSpPr>
            <p:nvPr/>
          </p:nvCxnSpPr>
          <p:spPr>
            <a:xfrm flipV="1" rot="16200000">
              <a:off x="5056560" y="3090240"/>
              <a:ext cx="229320" cy="1581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4"/>
            <p:cNvCxnSpPr>
              <a:stCxn id="98" idx="0"/>
              <a:endCxn id="96" idx="2"/>
            </p:cNvCxnSpPr>
            <p:nvPr/>
          </p:nvCxnSpPr>
          <p:spPr>
            <a:xfrm flipV="1">
              <a:off x="4381200" y="37663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4345"/>
            <p:cNvCxnSpPr>
              <a:stCxn id="100" idx="0"/>
              <a:endCxn id="96" idx="2"/>
            </p:cNvCxnSpPr>
            <p:nvPr/>
          </p:nvCxnSpPr>
          <p:spPr>
            <a:xfrm flipH="1" flipV="1" rot="5400000">
              <a:off x="3476880" y="3091320"/>
              <a:ext cx="229320" cy="157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4346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237280" y="2379240"/>
              <a:ext cx="229320" cy="1631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4347"/>
            <p:cNvCxnSpPr>
              <a:stCxn id="96" idx="0"/>
              <a:endCxn id="103" idx="2"/>
            </p:cNvCxnSpPr>
            <p:nvPr/>
          </p:nvCxnSpPr>
          <p:spPr>
            <a:xfrm flipH="1" flipV="1" rot="5400000">
              <a:off x="4344480" y="3117240"/>
              <a:ext cx="229320" cy="155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14348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14349"/>
            <p:cNvSpPr/>
            <p:nvPr/>
          </p:nvSpPr>
          <p:spPr>
            <a:xfrm>
              <a:off x="35956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14350"/>
            <p:cNvSpPr/>
            <p:nvPr/>
          </p:nvSpPr>
          <p:spPr>
            <a:xfrm>
              <a:off x="53812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14351"/>
            <p:cNvSpPr/>
            <p:nvPr/>
          </p:nvSpPr>
          <p:spPr>
            <a:xfrm>
              <a:off x="211932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_s14352"/>
            <p:cNvSpPr/>
            <p:nvPr/>
          </p:nvSpPr>
          <p:spPr>
            <a:xfrm>
              <a:off x="369864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14353"/>
            <p:cNvSpPr/>
            <p:nvPr/>
          </p:nvSpPr>
          <p:spPr>
            <a:xfrm>
              <a:off x="52776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432080" y="2624040"/>
            <a:ext cx="6206760" cy="2003400"/>
            <a:chOff x="1432080" y="2624040"/>
            <a:chExt cx="6206760" cy="2003400"/>
          </a:xfrm>
        </p:grpSpPr>
        <p:cxnSp>
          <p:nvCxnSpPr>
            <p:cNvPr id="107" name="_s15366"/>
            <p:cNvCxnSpPr>
              <a:stCxn id="108" idx="0"/>
              <a:endCxn id="109" idx="2"/>
            </p:cNvCxnSpPr>
            <p:nvPr/>
          </p:nvCxnSpPr>
          <p:spPr>
            <a:xfrm flipH="1" flipV="1" rot="5400000">
              <a:off x="6738480" y="3880080"/>
              <a:ext cx="2293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5367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4368240" y="3091320"/>
              <a:ext cx="229320" cy="1579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5368"/>
            <p:cNvCxnSpPr>
              <a:stCxn id="114" idx="0"/>
              <a:endCxn id="112" idx="2"/>
            </p:cNvCxnSpPr>
            <p:nvPr/>
          </p:nvCxnSpPr>
          <p:spPr>
            <a:xfrm flipV="1">
              <a:off x="369360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5369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2790000" y="3091320"/>
              <a:ext cx="229320" cy="157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5370"/>
            <p:cNvCxnSpPr>
              <a:stCxn id="109" idx="0"/>
              <a:endCxn id="118" idx="2"/>
            </p:cNvCxnSpPr>
            <p:nvPr/>
          </p:nvCxnSpPr>
          <p:spPr>
            <a:xfrm flipV="1" rot="16200000">
              <a:off x="5580000" y="2036520"/>
              <a:ext cx="229320" cy="2317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5371"/>
            <p:cNvCxnSpPr>
              <a:stCxn id="112" idx="0"/>
              <a:endCxn id="118" idx="2"/>
            </p:cNvCxnSpPr>
            <p:nvPr/>
          </p:nvCxnSpPr>
          <p:spPr>
            <a:xfrm flipH="1" flipV="1" rot="5400000">
              <a:off x="4000680" y="2773440"/>
              <a:ext cx="229320" cy="843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5372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15373"/>
            <p:cNvSpPr/>
            <p:nvPr/>
          </p:nvSpPr>
          <p:spPr>
            <a:xfrm>
              <a:off x="290880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15374"/>
            <p:cNvSpPr/>
            <p:nvPr/>
          </p:nvSpPr>
          <p:spPr>
            <a:xfrm>
              <a:off x="60670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15375"/>
            <p:cNvSpPr/>
            <p:nvPr/>
          </p:nvSpPr>
          <p:spPr>
            <a:xfrm>
              <a:off x="14320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15376"/>
            <p:cNvSpPr/>
            <p:nvPr/>
          </p:nvSpPr>
          <p:spPr>
            <a:xfrm>
              <a:off x="301104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15377"/>
            <p:cNvSpPr/>
            <p:nvPr/>
          </p:nvSpPr>
          <p:spPr>
            <a:xfrm>
              <a:off x="459036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15378"/>
            <p:cNvSpPr/>
            <p:nvPr/>
          </p:nvSpPr>
          <p:spPr>
            <a:xfrm>
              <a:off x="61696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84360" y="2624040"/>
            <a:ext cx="7703640" cy="2003400"/>
            <a:chOff x="684360" y="2624040"/>
            <a:chExt cx="7703640" cy="2003400"/>
          </a:xfrm>
        </p:grpSpPr>
        <p:cxnSp>
          <p:nvCxnSpPr>
            <p:cNvPr id="122" name="_s16389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719280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6390"/>
            <p:cNvCxnSpPr>
              <a:stCxn id="126" idx="0"/>
              <a:endCxn id="124" idx="2"/>
            </p:cNvCxnSpPr>
            <p:nvPr/>
          </p:nvCxnSpPr>
          <p:spPr>
            <a:xfrm flipH="1" flipV="1" rot="5400000">
              <a:off x="640044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6391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3630240" y="308880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6392"/>
            <p:cNvCxnSpPr>
              <a:stCxn id="131" idx="0"/>
              <a:endCxn id="129" idx="2"/>
            </p:cNvCxnSpPr>
            <p:nvPr/>
          </p:nvCxnSpPr>
          <p:spPr>
            <a:xfrm flipV="1">
              <a:off x="295308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6393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2046960" y="30891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6394"/>
            <p:cNvCxnSpPr>
              <a:stCxn id="124" idx="0"/>
              <a:endCxn id="135" idx="2"/>
            </p:cNvCxnSpPr>
            <p:nvPr/>
          </p:nvCxnSpPr>
          <p:spPr>
            <a:xfrm flipV="1" rot="16200000">
              <a:off x="5609160" y="2007360"/>
              <a:ext cx="229320" cy="2375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6395"/>
            <p:cNvCxnSpPr>
              <a:stCxn id="129" idx="0"/>
              <a:endCxn id="135" idx="2"/>
            </p:cNvCxnSpPr>
            <p:nvPr/>
          </p:nvCxnSpPr>
          <p:spPr>
            <a:xfrm flipH="1" flipV="1" rot="5400000">
              <a:off x="3630600" y="24033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5" name="_s1639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16397"/>
            <p:cNvSpPr/>
            <p:nvPr/>
          </p:nvSpPr>
          <p:spPr>
            <a:xfrm>
              <a:off x="216684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16398"/>
            <p:cNvSpPr/>
            <p:nvPr/>
          </p:nvSpPr>
          <p:spPr>
            <a:xfrm>
              <a:off x="61264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16399"/>
            <p:cNvSpPr/>
            <p:nvPr/>
          </p:nvSpPr>
          <p:spPr>
            <a:xfrm>
              <a:off x="68436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16400"/>
            <p:cNvSpPr/>
            <p:nvPr/>
          </p:nvSpPr>
          <p:spPr>
            <a:xfrm>
              <a:off x="226764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16401"/>
            <p:cNvSpPr/>
            <p:nvPr/>
          </p:nvSpPr>
          <p:spPr>
            <a:xfrm>
              <a:off x="385128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16402"/>
            <p:cNvSpPr/>
            <p:nvPr/>
          </p:nvSpPr>
          <p:spPr>
            <a:xfrm>
              <a:off x="543492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16403"/>
            <p:cNvSpPr/>
            <p:nvPr/>
          </p:nvSpPr>
          <p:spPr>
            <a:xfrm>
              <a:off x="701820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625 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10:51Z</dcterms:modified>
  <cp:revision>18</cp:revision>
  <dc:subject/>
  <dc:title>PowerPoint Presentation</dc:title>
</cp:coreProperties>
</file>