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129-3338-4A4E-A7DB-976D1FDE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E7A-F465-4568-8D88-ED2807F7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3F7-10CA-4280-BA89-D3FB6608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2A3-DAC7-487F-959D-E40AC44E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C99-058B-4BE2-BE4E-C87A2A35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A87-5205-4A08-BB82-7F54C9CA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782-118F-4FD9-A198-A886CA81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6B5-E65A-4E7C-966B-126F90CE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F27-DA56-4B9E-AE4C-1FEABA02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882-379A-4BE3-823F-43BCE159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6A2-86CD-4DC4-A146-296B893B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E09-ECE9-4242-B801-3656FF57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D4DD-C573-4160-83DB-16666E8EBE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сать два отче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ок книг данного автор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ок соавторов данной книг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чание: у каждого автора может быть несколько книг и у каждой книги может быть несколько соавто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ПечатьКниг(ТабДок, Ссылка) Экспо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кет = ОтчетОбъект.ПолучитьМакет("ПечатьКниг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Авторы.Наимен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Владеле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Владелец.Представле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Кни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Книга.Предста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Справочник.Книги КАК Кни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Авторы КАК Ав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 Книги.Владелец = Авторы.Ссыл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ГД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Авторы.Ссылка = &amp;Ссылка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Ссылка", Ссылк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Заголовок = Макет.ПолучитьОбласть("Заголовок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Подвал = Макет.ПолучитьОбласть("Подвал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ШапкаТаблицы = Макет.ПолучитьОбласть("ШапкаТаблиц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ПодвалТаблицы = Макет.ПолучитьОбласть("ПодвалТаблиц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ДетальныхЗаписей = Макет.ПолучитьОбласть("Детали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Очист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Вывести(ОбластьЗаголовок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Вывести(ОбластьШапкаТаблиц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НачатьАвтогруппировкуСтрок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каДетали = Результат.Выбрать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ВыборкаДетали.Следующий()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Заполнить(ВыборкаДетал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ВладелецПредставление=ВыборкаДета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аделец.Наименова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КнигаПредставление=ВыборкаДетали.Книга.Наименова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ДетальныхЗаписей, ВыборкаДетали.Уровень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ЗакончитьАвтогруппировкуСтрок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Таблицы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цедура ДействияФормыПечатьАвторовСформировать(Кноп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Док = ЭлементыФормы.ПолеТабличногоДокумен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чатьАвторов(ТабДок, Ссылк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ПечатьАвторов(ТабДок, Ссылка) Эк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ет = ОтчетОбъект.ПолучитьМакет("ПечатьАвторов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Кни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Книга.Представ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Владелец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Владелец.Представ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Авторы.Наименова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исокКниг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равочник.Книги КАК Кни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Авторы КАК Ав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О Книги.Владелец = Авторы.Ссылка И Книги.Владелец = Авторы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СписокКниг КАК СписокКни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О Книги.Книга = СписокКниг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Г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исокКниг.Ссылка = &amp;Ссылка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Ссылка", Ссылк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Заголовок = Макет.ПолучитьОбласть("Заголовок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Подвал = Макет.ПолучитьОбласть("Подвал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ШапкаТаблицы = Макет.ПолучитьОбласть("ШапкаТаблицы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ПодвалТаблицы = Макет.ПолучитьОбласть("ПодвалТаблицы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ДетальныхЗаписей = Макет.ПолучитьОбласть("Детали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Очист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Вывести(ОбластьЗаголов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Вывести(ОбластьШапкаТаблиц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НачатьАвтогруппировкуСтрок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каДетали = Результат.Выбра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ВыборкаДетали.Следующий()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Заполнить(ВыборкаДетал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ДетальныхЗапис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каДетали.Уровень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ЗакончитьАвтогруппировкуСтрок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Таблицы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187280" y="1197000"/>
          <a:ext cx="6985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6985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39640" y="189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печати ав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чат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4360" y="2133720"/>
          <a:ext cx="7704000" cy="33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77040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справочни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Автор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ниги (реквизит «Книга», тип значения – «Справочник.СписокКниг»), подчинен справочнику «Автор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писокКниг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руктура базы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38200" y="1981080"/>
          <a:ext cx="6265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1981080"/>
                    <a:ext cx="6265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формах отчетов создать реквизиты «ВыбАвтор» и «ВыбКниг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ыбОбъект.Выбран()=0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упреждение(«Текст1»+РазделительСтрок+«Текст2»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ть запрос по пример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Товар=Справочник.Товары.ТекущийЭлемен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Цена=Справочник.Товары.Це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Группировка Товар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Условие (Товар=ВыбОбъект)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ить(Запрос.Цен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ыбКнига.Выбран()=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("Не выбрана книга"+РазделительСтрок+"Запрос невыполнен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Книга=Справочник.Книги.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Автор=Справочник.Книги.ТекущийЭлемент.Владелец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Группировка Автор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Условие (Книга=ВыбКнига)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бщить(Запрос.Автор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ыбАвтор.Выбран()=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("Не выбран автор"+РазделительСтрок+"Запрос невыполнен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Книга=Справочник.Книги.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Автор=Справочник.Книги.ТекущийЭлемент.Владелец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Группировка 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Условие (Автор=ВыбАвтор)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бщить(Запрос.Книг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цед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яФормыПечатьКнигСформировать(Кноп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Док = ЭлементыФормы.ПолеТабличногоДокумен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чатьКниг(ТабДок, Ссылк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7:54Z</dcterms:modified>
  <cp:revision>15</cp:revision>
  <dc:subject/>
  <dc:title>PowerPoint Presentation</dc:title>
</cp:coreProperties>
</file>