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B4B8-B294-4E52-86BD-E860D4FBCE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CBD-25F0-4D5C-9D5F-7101F9E5ECE6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4AD-02E8-40AA-BBC2-2B9B17C7A9B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8AA6-80A8-4298-B126-C3249634446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DBD4-EFD6-4040-84C4-CB1DD5C7DB7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19A3-DDDD-4F61-92CE-134B1E6D7E5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263-247E-4D87-BB9E-BAF3061EC13E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B66-6A85-4AF9-AC2A-AA68895EADC6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46F0-FBE7-4233-98E1-D363B7B6D8E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7378-E4D9-4A8A-BBBB-95B47765EC15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924A-E471-485E-80B6-995511C6E81F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241-6F22-4DB4-ADAF-690B93765C8D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EC72-6BFC-48C4-847B-A6D4C9CE46A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181-990A-4A3C-83B0-227F514D8D9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1FEE-7FEE-4CBE-AB9F-039DB5A9768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689A-350B-4BC6-91F5-5AAD45CE664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5E9-03E7-4067-81DC-D2A81F15EB58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2F3-C5E5-43D7-ACB3-69EAB1F97297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47B-442E-4EA4-B223-32FDD347F9A1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594D-548B-4AFE-8EBB-D49C032D1D3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01A-E825-47AD-B64A-F56E1A23B1C4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5218-A14B-4DB9-8D1B-8F49ECFE589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9D56-F65D-4A0C-8022-E77FC277499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07B-B335-4932-90C8-E66F393B0553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940-BF31-4250-92AC-7E1ED9335E47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EB79-80A7-43CF-87B9-F5CED3B0261B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9CDD-82E6-4F57-B27C-F7455557BD38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3AF-88D9-4D69-B1CA-59DB7A578700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91DA-473C-4071-AD1A-8364AC4A8D8C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2186-78CB-44D5-AB0A-D62355EF02B9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49DB-2DC7-488A-8142-54B13D6D80B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8C92-90D8-46FD-9CA7-A0AEA666393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F4C-8A02-43FE-B449-1E2B53DA7B42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8EB-6C48-40FB-A644-16E7E679001A}" type="slidenum">
              <a:rPr b="0" lang="ru-RU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4B9E-7EF9-4833-90CE-1A14A49C4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503D-A89E-4E75-BC52-63E52E662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C69F-78B1-477A-B990-B574156BF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F6D0-3FBA-4F09-AA36-1BE8EE10C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0540-53A3-4C13-8168-9503B8BE0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98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34100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98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974040"/>
            <a:ext cx="2689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068F-2279-44F6-ADEE-180754863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48AC-EDED-4FD6-8B23-427EF9D5B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9AFE-7D7E-4A51-9966-AEA5849C6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57A2-2FA3-44A2-8F06-B81B3E8D7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67F8-90D9-497B-A4D8-97758AFE4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97404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4ABC-75C4-41A2-9E96-AF9C85C07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1000"/>
            <a:ext cx="4076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974040"/>
            <a:ext cx="8353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3CC8-4008-4677-8AE2-5230403D5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VIDEO_1"/>
          <p:cNvPicPr/>
          <p:nvPr/>
        </p:nvPicPr>
        <p:blipFill>
          <a:blip r:embed="rId2"/>
          <a:stretch/>
        </p:blipFill>
        <p:spPr>
          <a:xfrm>
            <a:off x="0" y="0"/>
            <a:ext cx="9144000" cy="2187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VIDEO_2"/>
          <p:cNvPicPr/>
          <p:nvPr/>
        </p:nvPicPr>
        <p:blipFill>
          <a:blip r:embed="rId3"/>
          <a:stretch/>
        </p:blipFill>
        <p:spPr>
          <a:xfrm>
            <a:off x="0" y="626904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-360" y="6632280"/>
            <a:ext cx="8172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245080" y="6624360"/>
            <a:ext cx="863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1074-D729-45CC-B560-A42ECF7FE233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7" descr="лого"/>
          <p:cNvPicPr/>
          <p:nvPr/>
        </p:nvPicPr>
        <p:blipFill>
          <a:blip r:embed="rId8"/>
          <a:stretch/>
        </p:blipFill>
        <p:spPr>
          <a:xfrm>
            <a:off x="-36360" y="-100080"/>
            <a:ext cx="1258560" cy="704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лого"/>
          <p:cNvPicPr/>
          <p:nvPr/>
        </p:nvPicPr>
        <p:blipFill>
          <a:blip r:embed="rId3"/>
          <a:stretch/>
        </p:blipFill>
        <p:spPr>
          <a:xfrm>
            <a:off x="0" y="61920"/>
            <a:ext cx="1511280" cy="84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95280" y="1341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0"/>
            <a:ext cx="489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именование мероприятия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547640" y="43164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Дата и место проведения мероприя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7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805360"/>
            <a:ext cx="39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кладчик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Должность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целевого финансирования автономного учрежде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едется на счете 86 «Целевое финансирование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Целевое финансирование из бюджета учитывается обособленно от целевых поступлений из других источник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на счете 86 ведется по источникам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 по статьям расходов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точник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определяет цели (целевой проект),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а которые были предоставлены целевые средств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татьи расходов целевых средств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это конкретные статьи бюджета (сметы) для каждого целевого проект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9" name="Picture 6" descr="1"/>
          <p:cNvPicPr/>
          <p:nvPr/>
        </p:nvPicPr>
        <p:blipFill>
          <a:blip r:embed="rId6"/>
          <a:stretch/>
        </p:blipFill>
        <p:spPr>
          <a:xfrm>
            <a:off x="395280" y="4797360"/>
            <a:ext cx="8209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ступле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ступле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креди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денежных средств, капитальных вложений и т. д.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мере фактического получения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700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76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«Расчеты с разными дебиторами и кредиторами»</a:t>
            </a:r>
            <a:br>
              <a:rPr sz="1800"/>
            </a:b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учет ведется по факту принятия решения о выделении средств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Аналитический учет расчетов по целевому финансированию ведется по контрагентам и назначениям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нтрагент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К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spcAft>
                <a:spcPts val="901"/>
              </a:spcAft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значение целевых средств –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ЧТО должен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январ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Членские взносы за февраль 2009 г.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201"/>
              </a:spcBef>
              <a:spcAft>
                <a:spcPts val="799"/>
              </a:spcAft>
              <a:buSzPct val="1545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«Целевая программа развития образования»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2" name="Picture 6" descr="2"/>
          <p:cNvPicPr/>
          <p:nvPr/>
        </p:nvPicPr>
        <p:blipFill>
          <a:blip r:embed="rId10"/>
          <a:stretch/>
        </p:blipFill>
        <p:spPr>
          <a:xfrm>
            <a:off x="395280" y="5445000"/>
            <a:ext cx="8280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евое финансирование: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использование целев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спользование средств целевого финансировани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ражается по дебету счета 8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капитальных влож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ом 83 «Добавочный капитал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финансирование текущих расход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корреспонденции со счетами учета затрат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 «Основное производство» и 26 «Общехозяйственные расходы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5" name="Picture 8" descr="4"/>
          <p:cNvPicPr/>
          <p:nvPr/>
        </p:nvPicPr>
        <p:blipFill>
          <a:blip r:embed="rId6"/>
          <a:stretch/>
        </p:blipFill>
        <p:spPr>
          <a:xfrm>
            <a:off x="468360" y="5229360"/>
            <a:ext cx="8353440" cy="131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"/>
          <p:cNvPicPr/>
          <p:nvPr/>
        </p:nvPicPr>
        <p:blipFill>
          <a:blip r:embed="rId7"/>
          <a:stretch/>
        </p:blipFill>
        <p:spPr>
          <a:xfrm>
            <a:off x="468360" y="2708280"/>
            <a:ext cx="6624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новных средст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Бухгалтерски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объектам основных средств АУ начисляется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е амортизация, а износ на забалансовом счете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0 «Износ основных средств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зависимо от источника их приобрет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жемесячно, линейным способо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алоговый учет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объект основных средств приобретен за счет доходов от предпринимательской деятельности и используется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ля ее осуществления, он подлежит амортизации в порядке, установленном главой 25 НК РФ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этом случае возникает постоянная разниц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 учета НДС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Требования законодательст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средств целевого финансирования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должен быть включен в стоимость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 имуществу, приобретенному за счет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доходов от предпринимательской деятельности,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ДС можно принять к выче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еализация в программ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араметр учетной политики «Организация осуществляет предпринимательскую деятельность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ть предпринимательская деятельность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бухгалтер управляет включением НДС в стоимость самостоятельно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т предпринимательской деятельности –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ДС будет включаться в стоимость всегд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собен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гламентированной отчетност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ализована специализированная Форма № 1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Бухгалтерский баланс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учетом рекомендаций Минфин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разделу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«Капитал и резервы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заполнение Формы № 6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тчет о целевом использовании полученных средств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 данным бухгалтерского учета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втоматизировано формирование регистров налогового учета целев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поступлений целевых средст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егистр учета использования целевых поступлен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8"/>
          <a:stretch/>
        </p:blipFill>
        <p:spPr>
          <a:xfrm>
            <a:off x="755640" y="1268280"/>
            <a:ext cx="6583320" cy="532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9"/>
          <a:stretch/>
        </p:blipFill>
        <p:spPr>
          <a:xfrm>
            <a:off x="1143000" y="1428840"/>
            <a:ext cx="6215040" cy="516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1187280" y="1733400"/>
            <a:ext cx="6624720" cy="485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11"/>
          <a:stretch/>
        </p:blipFill>
        <p:spPr>
          <a:xfrm>
            <a:off x="1692360" y="2205000"/>
            <a:ext cx="6119640" cy="43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пециализированные функции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для образовательных учреждений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635280" y="1268280"/>
            <a:ext cx="4826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 родительской плате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ая плата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за содержание детей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детских учреждениях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а за дополнительные образовательные услуги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0" name="Picture 17" descr="MPj04337310000[1]"/>
          <p:cNvPicPr/>
          <p:nvPr/>
        </p:nvPicPr>
        <p:blipFill>
          <a:blip r:embed="rId4"/>
          <a:stretch/>
        </p:blipFill>
        <p:spPr>
          <a:xfrm>
            <a:off x="5651640" y="3933720"/>
            <a:ext cx="1697040" cy="2505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Pj04090480000[1]"/>
          <p:cNvPicPr/>
          <p:nvPr/>
        </p:nvPicPr>
        <p:blipFill>
          <a:blip r:embed="rId5"/>
          <a:stretch/>
        </p:blipFill>
        <p:spPr>
          <a:xfrm>
            <a:off x="357120" y="1428840"/>
            <a:ext cx="321948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24000" y="4076640"/>
            <a:ext cx="48258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расчетов со студентами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латное обучение студентов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очие услуг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предоставление общежития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едение списков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етей и студентов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2400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отдельных справочниках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Дети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правочник «Студенты»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дельно по учреждениям (организациям)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личие понятий «Ребенок» и «Студент»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Дети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нтрагенту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лемент справочника «Студенты» соответствует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говору с контрагентом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4"/>
          <p:cNvSpPr/>
          <p:nvPr/>
        </p:nvSpPr>
        <p:spPr>
          <a:xfrm>
            <a:off x="395280" y="5661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395280" y="2781360"/>
            <a:ext cx="8353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оговоры контрагентов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AutoShape 42"/>
          <p:cNvSpPr/>
          <p:nvPr/>
        </p:nvSpPr>
        <p:spPr>
          <a:xfrm>
            <a:off x="395280" y="4581360"/>
            <a:ext cx="835344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Студ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" name="AutoShape 41"/>
          <p:cNvSpPr/>
          <p:nvPr/>
        </p:nvSpPr>
        <p:spPr>
          <a:xfrm>
            <a:off x="395280" y="1989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Дети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395280" y="378936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AutoShape 39"/>
          <p:cNvSpPr/>
          <p:nvPr/>
        </p:nvSpPr>
        <p:spPr>
          <a:xfrm>
            <a:off x="395280" y="1197000"/>
            <a:ext cx="8353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99">
                  <a:alpha val="50196"/>
                </a:srgbClr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Справочник «Контрагенты»</a:t>
            </a:r>
            <a:endParaRPr b="0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32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азличие понятий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Ребенок» и «Студент»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8269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Младшая группа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рисо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6300720" y="2852640"/>
            <a:ext cx="2016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ружок плаван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3635280" y="2060640"/>
            <a:ext cx="201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Ребенок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Вася Ивано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87" name="AutoShape 9"/>
          <p:cNvCxnSpPr>
            <a:stCxn id="186" idx="2"/>
            <a:endCxn id="183" idx="0"/>
          </p:cNvCxnSpPr>
          <p:nvPr/>
        </p:nvCxnSpPr>
        <p:spPr>
          <a:xfrm flipH="1">
            <a:off x="1834920" y="2565360"/>
            <a:ext cx="280872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8" name="AutoShape 10"/>
          <p:cNvCxnSpPr>
            <a:stCxn id="186" idx="2"/>
            <a:endCxn id="184" idx="0"/>
          </p:cNvCxnSpPr>
          <p:nvPr/>
        </p:nvCxnSpPr>
        <p:spPr>
          <a:xfrm>
            <a:off x="4642920" y="2565360"/>
            <a:ext cx="108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89" name="AutoShape 11"/>
          <p:cNvCxnSpPr>
            <a:stCxn id="186" idx="2"/>
            <a:endCxn id="185" idx="0"/>
          </p:cNvCxnSpPr>
          <p:nvPr/>
        </p:nvCxnSpPr>
        <p:spPr>
          <a:xfrm>
            <a:off x="4643280" y="2565360"/>
            <a:ext cx="2666160" cy="28800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90" name="AutoShape 12"/>
          <p:cNvSpPr/>
          <p:nvPr/>
        </p:nvSpPr>
        <p:spPr>
          <a:xfrm>
            <a:off x="68256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cc00"/>
            </a:solidFill>
            <a:miter/>
          </a:ln>
          <a:effectLst>
            <a:outerShdw dist="63504" dir="2216091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68256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ибернетики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2698920" y="4654440"/>
            <a:ext cx="180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63504" dir="2216091" blurRad="0" rotWithShape="0">
              <a:srgbClr val="ccf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713120" y="4654440"/>
            <a:ext cx="18021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  <a:effectLst>
            <a:outerShdw dist="63504" dir="221609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6730920" y="465444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99cc"/>
            </a:solidFill>
            <a:miter/>
          </a:ln>
          <a:effectLst>
            <a:outerShdw dist="63504" dir="2216091" blurRad="0" rotWithShape="0">
              <a:srgbClr val="ff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тудент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Иван Васильев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2698920" y="5734080"/>
            <a:ext cx="1800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Факультет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Экономически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47131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латный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курс английского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6730920" y="5734080"/>
            <a:ext cx="1800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221609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редоставление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бщежития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198" name="AutoShape 24"/>
          <p:cNvCxnSpPr>
            <a:stCxn id="190" idx="2"/>
            <a:endCxn id="191" idx="0"/>
          </p:cNvCxnSpPr>
          <p:nvPr/>
        </p:nvCxnSpPr>
        <p:spPr>
          <a:xfrm>
            <a:off x="158220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199" name="AutoShape 26"/>
          <p:cNvCxnSpPr>
            <a:stCxn id="192" idx="2"/>
            <a:endCxn id="195" idx="0"/>
          </p:cNvCxnSpPr>
          <p:nvPr/>
        </p:nvCxnSpPr>
        <p:spPr>
          <a:xfrm>
            <a:off x="359856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0" name="AutoShape 27"/>
          <p:cNvCxnSpPr>
            <a:stCxn id="193" idx="2"/>
            <a:endCxn id="196" idx="0"/>
          </p:cNvCxnSpPr>
          <p:nvPr/>
        </p:nvCxnSpPr>
        <p:spPr>
          <a:xfrm flipH="1">
            <a:off x="5613120" y="5230800"/>
            <a:ext cx="216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cxnSp>
        <p:nvCxnSpPr>
          <p:cNvPr id="201" name="AutoShape 29"/>
          <p:cNvCxnSpPr>
            <a:stCxn id="194" idx="2"/>
            <a:endCxn id="197" idx="0"/>
          </p:cNvCxnSpPr>
          <p:nvPr/>
        </p:nvCxnSpPr>
        <p:spPr>
          <a:xfrm>
            <a:off x="7630920" y="5230800"/>
            <a:ext cx="1080" cy="504000"/>
          </a:xfrm>
          <a:prstGeom prst="straightConnector1">
            <a:avLst/>
          </a:prstGeom>
          <a:ln w="9360">
            <a:solidFill>
              <a:srgbClr val="ff9900"/>
            </a:solidFill>
            <a:miter/>
          </a:ln>
        </p:spPr>
      </p:cxnSp>
      <p:sp>
        <p:nvSpPr>
          <p:cNvPr id="202" name="AutoShape 32"/>
          <p:cNvSpPr/>
          <p:nvPr/>
        </p:nvSpPr>
        <p:spPr>
          <a:xfrm>
            <a:off x="3635280" y="127008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Вася Ивано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AutoShape 33"/>
          <p:cNvSpPr/>
          <p:nvPr/>
        </p:nvSpPr>
        <p:spPr>
          <a:xfrm>
            <a:off x="3562200" y="3862440"/>
            <a:ext cx="20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232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Контрагент</a:t>
            </a:r>
            <a:br>
              <a:rPr sz="1600"/>
            </a:b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Иван Васильев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cxnSp>
        <p:nvCxnSpPr>
          <p:cNvPr id="204" name="AutoShape 34"/>
          <p:cNvCxnSpPr>
            <a:stCxn id="186" idx="0"/>
            <a:endCxn id="202" idx="2"/>
          </p:cNvCxnSpPr>
          <p:nvPr/>
        </p:nvCxnSpPr>
        <p:spPr>
          <a:xfrm flipV="1">
            <a:off x="4642920" y="1783800"/>
            <a:ext cx="1080" cy="27684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5" name="AutoShape 35"/>
          <p:cNvCxnSpPr>
            <a:stCxn id="190" idx="0"/>
            <a:endCxn id="203" idx="2"/>
          </p:cNvCxnSpPr>
          <p:nvPr/>
        </p:nvCxnSpPr>
        <p:spPr>
          <a:xfrm flipV="1">
            <a:off x="1582560" y="4376160"/>
            <a:ext cx="298872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6" name="AutoShape 36"/>
          <p:cNvCxnSpPr>
            <a:stCxn id="192" idx="0"/>
            <a:endCxn id="203" idx="2"/>
          </p:cNvCxnSpPr>
          <p:nvPr/>
        </p:nvCxnSpPr>
        <p:spPr>
          <a:xfrm flipV="1">
            <a:off x="3598560" y="4376160"/>
            <a:ext cx="97236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7" name="AutoShape 37"/>
          <p:cNvCxnSpPr>
            <a:stCxn id="193" idx="0"/>
            <a:endCxn id="203" idx="2"/>
          </p:cNvCxnSpPr>
          <p:nvPr/>
        </p:nvCxnSpPr>
        <p:spPr>
          <a:xfrm flipH="1" flipV="1">
            <a:off x="4569840" y="4376160"/>
            <a:ext cx="104508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08" name="AutoShape 38"/>
          <p:cNvCxnSpPr>
            <a:stCxn id="194" idx="0"/>
            <a:endCxn id="203" idx="2"/>
          </p:cNvCxnSpPr>
          <p:nvPr/>
        </p:nvCxnSpPr>
        <p:spPr>
          <a:xfrm flipH="1" flipV="1">
            <a:off x="4570200" y="4376160"/>
            <a:ext cx="3061440" cy="2782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ет и отчетность по взаиморасчетам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 родителями и студентами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по родительской плат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ыписка квитанций на оплату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е 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ечать табеля учета посещаемости дете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 родителям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содержание детей в детском учреждении (ф. 327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дополнительные образовательны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расчета компенсации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дительской платы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отчета по оплате квитанций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счеты со студентам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ачисления за платное обучение и прочие услуг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Формирование ведомости по расчетам со студентами (ф. 809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латное обучени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а прочие услуг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чем пойдет речь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561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овый продукт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1С:Бухгалтери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втономного учреждения 8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то такое автономное учреждение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кого предназначен этот продукт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истика конфигураци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обенности учета в автономных учреждения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Функциональные возможности конфигурации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Picture 4" descr="MCj04326400000[1]"/>
          <p:cNvPicPr/>
          <p:nvPr/>
        </p:nvPicPr>
        <p:blipFill>
          <a:blip r:embed="rId7"/>
          <a:stretch/>
        </p:blipFill>
        <p:spPr>
          <a:xfrm>
            <a:off x="6732720" y="4797360"/>
            <a:ext cx="223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тавки оплаты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тавка оплаты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фиксирова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менная ставка за месяц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ставка за день (за посещение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цент льготы (скидки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еимуществ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 сравнению 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 «Бухгалтерией для бюджетных учреждений 7.7»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еречень ставок оплаты «на одном листе»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Возможность автоматического расчета суммы начисления для любых видов услуг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и изменении тарифов на услуги нужно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просто изменить параметры ставки оплаты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ереход с предыдущих версий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Действуют обычные условия апгрейда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Приобрести продукт на условиях апгрейда могут пользователи предыдущих версий программных продуктов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 для бюджетных учреждений 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7.7. Упрощенная система налогообложения. Базовая версия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«1С:Бухгалтерия 8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ри переходе с указанных программных продуктов предусмотрен механизм переноса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50920" y="6093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312920"/>
            <a:ext cx="914400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Бухгалтерия автономного учреждения</a:t>
            </a: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635280" y="3645000"/>
            <a:ext cx="45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25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Что такое автономные учреждения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Автономные учреждения (АУ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коммерческие организации, созданные РФ для выполнения работ, оказания услуг в сферах образования, здравоохранения, науки, культуры, спорта, социальной защиты и других сферах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огут создаваться путем учреждения или изменения типа существующего бюджетного учреждени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Organization Chart 5"/>
          <p:cNvGrpSpPr/>
          <p:nvPr/>
        </p:nvGrpSpPr>
        <p:grpSpPr>
          <a:xfrm>
            <a:off x="1230120" y="3481200"/>
            <a:ext cx="5372280" cy="2486160"/>
            <a:chOff x="1230120" y="3481200"/>
            <a:chExt cx="5372280" cy="2486160"/>
          </a:xfrm>
        </p:grpSpPr>
        <p:cxnSp>
          <p:nvCxnSpPr>
            <p:cNvPr id="100" name="_s1028"/>
            <p:cNvCxnSpPr>
              <a:stCxn id="101" idx="2"/>
              <a:endCxn id="102" idx="0"/>
            </p:cNvCxnSpPr>
            <p:nvPr/>
          </p:nvCxnSpPr>
          <p:spPr>
            <a:xfrm rot="5400000">
              <a:off x="3344400" y="3320280"/>
              <a:ext cx="182520" cy="148644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1" idx="2"/>
            </p:cNvCxnSpPr>
            <p:nvPr/>
          </p:nvCxnSpPr>
          <p:spPr>
            <a:xfrm flipV="1" rot="16200000">
              <a:off x="5127840" y="3022560"/>
              <a:ext cx="182520" cy="208116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1" idx="2"/>
            </p:cNvCxnSpPr>
            <p:nvPr/>
          </p:nvCxnSpPr>
          <p:spPr>
            <a:xfrm flipV="1" rot="16200000">
              <a:off x="4642200" y="3508200"/>
              <a:ext cx="182520" cy="11095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0"/>
              <a:endCxn id="101" idx="2"/>
            </p:cNvCxnSpPr>
            <p:nvPr/>
          </p:nvCxnSpPr>
          <p:spPr>
            <a:xfrm flipV="1" rot="16200000">
              <a:off x="4185000" y="3965400"/>
              <a:ext cx="182520" cy="195120"/>
            </a:xfrm>
            <a:prstGeom prst="bentConnector3">
              <a:avLst>
                <a:gd name="adj1" fmla="val 49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2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302720" y="5183640"/>
              <a:ext cx="141480" cy="799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3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3503160" y="5183280"/>
              <a:ext cx="141480" cy="80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4"/>
            <p:cNvCxnSpPr>
              <a:stCxn id="111" idx="0"/>
              <a:endCxn id="102" idx="2"/>
            </p:cNvCxnSpPr>
            <p:nvPr/>
          </p:nvCxnSpPr>
          <p:spPr>
            <a:xfrm flipV="1" rot="16200000">
              <a:off x="3242160" y="3966480"/>
              <a:ext cx="181800" cy="128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5"/>
            <p:cNvCxnSpPr>
              <a:stCxn id="116" idx="0"/>
              <a:endCxn id="102" idx="2"/>
            </p:cNvCxnSpPr>
            <p:nvPr/>
          </p:nvCxnSpPr>
          <p:spPr>
            <a:xfrm flipH="1" flipV="1" rot="5400000">
              <a:off x="2185200" y="4189680"/>
              <a:ext cx="181800" cy="835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6"/>
            <p:cNvSpPr/>
            <p:nvPr/>
          </p:nvSpPr>
          <p:spPr>
            <a:xfrm>
              <a:off x="1801440" y="4154760"/>
              <a:ext cx="178308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1230120" y="4698000"/>
              <a:ext cx="12571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гражданином или юрлицо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2715840" y="4698000"/>
              <a:ext cx="2515320" cy="81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Государственное </a:t>
              </a:r>
              <a:br>
                <a:rPr sz="1200"/>
              </a:b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(создается РФ, субъектом РФ, муниципальным образованием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24876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_s1040"/>
            <p:cNvSpPr/>
            <p:nvPr/>
          </p:nvSpPr>
          <p:spPr>
            <a:xfrm>
              <a:off x="4087800" y="5654520"/>
              <a:ext cx="1371600" cy="3128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_s1041"/>
            <p:cNvSpPr/>
            <p:nvPr/>
          </p:nvSpPr>
          <p:spPr>
            <a:xfrm>
              <a:off x="39733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4887720" y="4154760"/>
              <a:ext cx="79992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4" name="_s1043"/>
            <p:cNvSpPr/>
            <p:nvPr/>
          </p:nvSpPr>
          <p:spPr>
            <a:xfrm>
              <a:off x="5916600" y="4154760"/>
              <a:ext cx="685800" cy="362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1" name="_s1044"/>
            <p:cNvSpPr/>
            <p:nvPr/>
          </p:nvSpPr>
          <p:spPr>
            <a:xfrm>
              <a:off x="3287520" y="3481200"/>
              <a:ext cx="1783080" cy="49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споряжение Правительства РФ №1313-р от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3.09.2008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О реализации указа Президента об оценке эффективности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еятельности органов местного самоуправлен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ородских округов и муниципальных районов»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казателя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по которым динамика роста свидетельствует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ффективности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органов местного самоуправления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сфере организации муниципального управления, являются: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ля муниципальных автономных учреждений от общего числа муниципальных учреждений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бюджетных и автономных) в городском округе (муниципальном районе). Этот показатель позволяет оценить степень внедрени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вого типа муниципальных учреждени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автономных учреждений, большая финансова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изационная самостоятельность которых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зволяет эффективнее управлять имеющимис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урса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обеспечивая при этом рост заработной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латы и улучшение качества предоставляемых услуг»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поряжение от 17 ноября 2008 г. №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663-р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«Основные направления 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авительства Российской Федерации»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период до 2012 год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чественное и доступное здравоохранение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стимулировать изменение организационно-правовых форм, в том числе преобразование бюджетных учреждений здравоохранения в автономные.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 2012 году до 15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 процентов таких учреждений перейдут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другие организационно-правовые формы, в том числе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дошко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Следует принять меры к постепенному изменению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х форм дошкольных учреждений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лексная модернизация высшего профессионального образ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Активизируется работа по внедрению нормативно-подушевых механизмов оплаты образовательных услуг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 одновременным переводом образовательных учреждений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форму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втономные учреждения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витие культуры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Предстоит начать поэтапный переход к новым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рганизационно-правовым формам организаций культуры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е учрежд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ивное государство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«Будет установлен с 1 января 2009 г. порядок формирования и финансового обеспечения выполнения государственных заданий на оказание государственных услуг… Это … создаст стимулы для более широкого участия в предоставлении государственных услуг федеральным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втономными учреждениям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ля кого предназначен продукт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0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дукт предназначен для автоматизации бухгалтерского учета автономных учреждений, созданных в соответствии с ФЗ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Об автономных учреждениях» от 03.11.2006 года №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74-ФЗ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арактерные черты автономных учреждений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едут учет на хозрасчетном плане счетов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утв. приказом Минфина от 31.10.2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№ 94н),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чно коммерческим организациям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нансирование основной деятельности осуществляется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 бюджета в соответствии с заданием учредител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осударств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огут оказывать услуги за плату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самостоятельно распоряжаться доходам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spcAft>
                <a:spcPts val="901"/>
              </a:spcAft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полагаем, что продукт с большой вероятностью подойдет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другим некоммерческим организациям (НКО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7" name="Organization Chart 4"/>
          <p:cNvGrpSpPr/>
          <p:nvPr/>
        </p:nvGrpSpPr>
        <p:grpSpPr>
          <a:xfrm>
            <a:off x="866520" y="4834080"/>
            <a:ext cx="5207400" cy="1553040"/>
            <a:chOff x="866520" y="4834080"/>
            <a:chExt cx="5207400" cy="1553040"/>
          </a:xfrm>
        </p:grpSpPr>
        <p:cxnSp>
          <p:nvCxnSpPr>
            <p:cNvPr id="128" name="_s3076"/>
            <p:cNvCxnSpPr>
              <a:stCxn id="129" idx="2"/>
              <a:endCxn id="130" idx="0"/>
            </p:cNvCxnSpPr>
            <p:nvPr/>
          </p:nvCxnSpPr>
          <p:spPr>
            <a:xfrm rot="5400000">
              <a:off x="2940480" y="4515480"/>
              <a:ext cx="126000" cy="1440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29" idx="2"/>
            </p:cNvCxnSpPr>
            <p:nvPr/>
          </p:nvCxnSpPr>
          <p:spPr>
            <a:xfrm flipV="1" rot="16200000">
              <a:off x="4668480" y="4226400"/>
              <a:ext cx="126000" cy="201672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8"/>
            <p:cNvCxnSpPr>
              <a:stCxn id="134" idx="0"/>
              <a:endCxn id="129" idx="2"/>
            </p:cNvCxnSpPr>
            <p:nvPr/>
          </p:nvCxnSpPr>
          <p:spPr>
            <a:xfrm flipV="1" rot="16200000">
              <a:off x="4198320" y="4696560"/>
              <a:ext cx="126000" cy="10764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3079"/>
            <p:cNvCxnSpPr>
              <a:stCxn id="136" idx="0"/>
              <a:endCxn id="129" idx="2"/>
            </p:cNvCxnSpPr>
            <p:nvPr/>
          </p:nvCxnSpPr>
          <p:spPr>
            <a:xfrm flipV="1" rot="16200000">
              <a:off x="3754440" y="5140440"/>
              <a:ext cx="126000" cy="189000"/>
            </a:xfrm>
            <a:prstGeom prst="bentConnector3">
              <a:avLst>
                <a:gd name="adj1" fmla="val 498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3080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3821760" y="5691600"/>
              <a:ext cx="18180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3081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46680" y="5692680"/>
              <a:ext cx="181800" cy="77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3082"/>
            <p:cNvCxnSpPr>
              <a:stCxn id="139" idx="0"/>
              <a:endCxn id="130" idx="2"/>
            </p:cNvCxnSpPr>
            <p:nvPr/>
          </p:nvCxnSpPr>
          <p:spPr>
            <a:xfrm flipV="1" rot="16200000">
              <a:off x="2841120" y="4990680"/>
              <a:ext cx="126360" cy="1241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83"/>
            <p:cNvCxnSpPr>
              <a:stCxn id="144" idx="0"/>
              <a:endCxn id="130" idx="2"/>
            </p:cNvCxnSpPr>
            <p:nvPr/>
          </p:nvCxnSpPr>
          <p:spPr>
            <a:xfrm flipH="1" flipV="1" rot="5400000">
              <a:off x="1817280" y="5207400"/>
              <a:ext cx="126360" cy="80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3084"/>
            <p:cNvSpPr/>
            <p:nvPr/>
          </p:nvSpPr>
          <p:spPr>
            <a:xfrm>
              <a:off x="1419480" y="5298120"/>
              <a:ext cx="1728720" cy="250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Учреждения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4" name="_s3085"/>
            <p:cNvSpPr/>
            <p:nvPr/>
          </p:nvSpPr>
          <p:spPr>
            <a:xfrm>
              <a:off x="866520" y="5674680"/>
              <a:ext cx="1218960" cy="315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Част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9" name="_s3086"/>
            <p:cNvSpPr/>
            <p:nvPr/>
          </p:nvSpPr>
          <p:spPr>
            <a:xfrm>
              <a:off x="2305800" y="5674680"/>
              <a:ext cx="2437920" cy="315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Государственное или муниципальное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41" name="_s3087"/>
            <p:cNvSpPr/>
            <p:nvPr/>
          </p:nvSpPr>
          <p:spPr>
            <a:xfrm>
              <a:off x="2085480" y="6171120"/>
              <a:ext cx="1328400" cy="21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Бюджетное (Б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8" name="_s3088"/>
            <p:cNvSpPr/>
            <p:nvPr/>
          </p:nvSpPr>
          <p:spPr>
            <a:xfrm>
              <a:off x="3636000" y="6171120"/>
              <a:ext cx="1330200" cy="216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втономное (АУ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6" name="_s3089"/>
            <p:cNvSpPr/>
            <p:nvPr/>
          </p:nvSpPr>
          <p:spPr>
            <a:xfrm>
              <a:off x="3524760" y="5298120"/>
              <a:ext cx="77508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АНО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4" name="_s3090"/>
            <p:cNvSpPr/>
            <p:nvPr/>
          </p:nvSpPr>
          <p:spPr>
            <a:xfrm>
              <a:off x="4412520" y="5298120"/>
              <a:ext cx="77400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Фонды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32" name="_s3091"/>
            <p:cNvSpPr/>
            <p:nvPr/>
          </p:nvSpPr>
          <p:spPr>
            <a:xfrm>
              <a:off x="5408280" y="5298120"/>
              <a:ext cx="665640" cy="250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29" name="_s3092"/>
            <p:cNvSpPr/>
            <p:nvPr/>
          </p:nvSpPr>
          <p:spPr>
            <a:xfrm>
              <a:off x="2859120" y="4834080"/>
              <a:ext cx="1730160" cy="33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Некоммерческие организации (НКО)</a:t>
              </a:r>
              <a:endParaRPr b="0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329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ункциональные возможности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фигураци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5872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ет целевого финансирования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основных средств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учета НДС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собенности регламентированной отчетност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пециализированные функции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ля образовательных учреждений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по родительской плат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чет расчетов за платное обучение студентов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5:32:40Z</dcterms:created>
  <dc:creator/>
  <dc:description/>
  <dc:language>en-US</dc:language>
  <cp:lastModifiedBy>0</cp:lastModifiedBy>
  <dcterms:modified xsi:type="dcterms:W3CDTF">2009-04-02T08:57:38Z</dcterms:modified>
  <cp:revision>320</cp:revision>
  <dc:subject/>
  <dc:title/>
</cp:coreProperties>
</file>