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2.jpeg" ContentType="image/jpeg"/>
  <Override PartName="/ppt/media/image3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56927-8B1E-43CC-BC6C-28DBD474901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4825D-B24E-4B16-A383-1B8D79675199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4E7BE-0E2B-481E-B921-C02FB4595822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D0DD1-C343-4724-9CF6-3440DB541FE4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C18C6-495B-45C3-93CA-6D6DAA93BD65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8088D-D870-498A-A854-382D7B3E3868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466FE-9784-47F9-9FE5-1D4E530203A3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047EA-96B8-46FC-A5CD-7D912A45E71E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5C547-5508-4394-9295-B620C5EE934A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3FB56-63C8-4801-8E52-CA8CC368D8F0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5E6AB-1FFD-4E7B-8502-770DF5FA2CC3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833F1-21F0-48DA-8A56-D69FBB855D2A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9C4CC-DD08-4234-A15A-25D13251187D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382BE-F138-4CCB-A441-A34736BE2627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F4DED-883F-4456-BD31-0430453E3073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93899-4797-4013-B705-FAA9814FE98B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1E4DB-B1EB-4D50-8346-1D7A9987DBBC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C749D-F9FF-44FB-8C49-7ABA36412C5D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F3A74-8FDF-4678-9607-DEC4FF8CF640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EBA64-0185-4822-8067-9C5BD7AD7D71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77407-877D-45B1-9FF1-C18038D38AFD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CA84F-5F4C-4F34-81CA-13EC649622AB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50FD9-3573-4596-946F-4CA6A978507F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775D4-20F5-4BC3-8962-F0658EFA65FD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54818-683E-493D-9C4A-608A25D8469D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DB734-DC6A-4D69-AC0A-92D26603F7A5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DD3D9-3FFE-47C4-8B9B-A0F2375617F1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7C80D-8320-4B31-AF67-A9F4741803BF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4F857-1F59-4070-B68B-469FF009AD56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8D60F-78AB-445A-AFC8-3725E2DE6A9E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995C7-1869-4500-91BC-42A0703E1823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4ACAD-91EA-4A12-A74D-833988B7525E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35C92-E83E-4A48-B197-34847F4108F1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AA109-1A58-42AB-90E9-DC3A429920C9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CE88A-32B1-4B13-A645-C564514DB4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353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5280" y="3974040"/>
            <a:ext cx="8353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3DD79-4ED4-42E9-A71A-9F066C4AE5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4076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5680" y="1341000"/>
            <a:ext cx="4076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5280" y="3974040"/>
            <a:ext cx="4076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5680" y="3974040"/>
            <a:ext cx="4076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BB2B1-7E1F-4F75-B172-538E9A4227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26895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9840" y="1341000"/>
            <a:ext cx="26895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040" y="1341000"/>
            <a:ext cx="26895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5280" y="3974040"/>
            <a:ext cx="26895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9840" y="3974040"/>
            <a:ext cx="26895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040" y="3974040"/>
            <a:ext cx="26895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0D43B-EBDC-4639-809F-9DAAE1AC1F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5280" y="1341000"/>
            <a:ext cx="83534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353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4076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5680" y="1341000"/>
            <a:ext cx="4076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4076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5680" y="1341000"/>
            <a:ext cx="4076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95280" y="3974040"/>
            <a:ext cx="4076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5280" y="1341000"/>
            <a:ext cx="83534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5CB15-EDEA-4F05-8F18-90CF224BDD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4076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5680" y="1341000"/>
            <a:ext cx="4076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5680" y="3974040"/>
            <a:ext cx="4076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4076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5680" y="1341000"/>
            <a:ext cx="4076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5280" y="3974040"/>
            <a:ext cx="8353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353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5280" y="3974040"/>
            <a:ext cx="8353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4076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5680" y="1341000"/>
            <a:ext cx="4076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95280" y="3974040"/>
            <a:ext cx="4076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5680" y="3974040"/>
            <a:ext cx="4076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26895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19840" y="1341000"/>
            <a:ext cx="26895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44040" y="1341000"/>
            <a:ext cx="26895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95280" y="3974040"/>
            <a:ext cx="26895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19840" y="3974040"/>
            <a:ext cx="26895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44040" y="3974040"/>
            <a:ext cx="26895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353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10739-B6E2-4701-B802-E55C4C7D25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4076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5680" y="1341000"/>
            <a:ext cx="4076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405E5-154D-43FA-9F7A-245E1E5BC4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844EE-931A-48D4-8E0A-8D43C53EB9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9C04F-CEED-4300-AAEA-215F3514C3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4076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5680" y="1341000"/>
            <a:ext cx="4076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5280" y="3974040"/>
            <a:ext cx="4076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79965-D33B-4A7C-BEE4-990C17C85B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4076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5680" y="1341000"/>
            <a:ext cx="4076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5680" y="3974040"/>
            <a:ext cx="4076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3B67E-A437-4218-9F0F-E89F4D44E6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4076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5680" y="1341000"/>
            <a:ext cx="4076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5280" y="3974040"/>
            <a:ext cx="8353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6562D-C055-4A6E-9AF5-4D581C4B48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8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VIDEO_1"/>
          <p:cNvPicPr/>
          <p:nvPr/>
        </p:nvPicPr>
        <p:blipFill>
          <a:blip r:embed="rId2"/>
          <a:stretch/>
        </p:blipFill>
        <p:spPr>
          <a:xfrm>
            <a:off x="0" y="0"/>
            <a:ext cx="9144000" cy="21877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VIDEO_2"/>
          <p:cNvPicPr/>
          <p:nvPr/>
        </p:nvPicPr>
        <p:blipFill>
          <a:blip r:embed="rId3"/>
          <a:stretch/>
        </p:blipFill>
        <p:spPr>
          <a:xfrm>
            <a:off x="0" y="6269040"/>
            <a:ext cx="9144000" cy="58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>
          <a:xfrm>
            <a:off x="-360" y="6632280"/>
            <a:ext cx="817236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>
          <a:xfrm>
            <a:off x="8245080" y="6624360"/>
            <a:ext cx="863640" cy="21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C64B2-C6E8-45A6-AD70-65A53D25E3F2}" type="slidenum"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395280" y="1341000"/>
            <a:ext cx="8353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" name="Picture 7" descr="лого"/>
          <p:cNvPicPr/>
          <p:nvPr/>
        </p:nvPicPr>
        <p:blipFill>
          <a:blip r:embed="rId8"/>
          <a:stretch/>
        </p:blipFill>
        <p:spPr>
          <a:xfrm>
            <a:off x="-36360" y="-100080"/>
            <a:ext cx="1258560" cy="70488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1187280" y="-360"/>
            <a:ext cx="532944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лого"/>
          <p:cNvPicPr/>
          <p:nvPr/>
        </p:nvPicPr>
        <p:blipFill>
          <a:blip r:embed="rId3"/>
          <a:stretch/>
        </p:blipFill>
        <p:spPr>
          <a:xfrm>
            <a:off x="0" y="61920"/>
            <a:ext cx="1511280" cy="846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395280" y="1341000"/>
            <a:ext cx="8353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47640" y="0"/>
            <a:ext cx="489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Наименование мероприятия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1547640" y="43164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Дата и место проведения мероприятия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3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2050920" y="6093000"/>
            <a:ext cx="6985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412640"/>
            <a:ext cx="9144000" cy="276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r>
              <a:rPr b="1" lang="ru-RU" sz="3400" spc="-1" strike="noStrike">
                <a:solidFill>
                  <a:srgbClr val="000066"/>
                </a:solidFill>
                <a:latin typeface="Arial"/>
              </a:rPr>
              <a:t>Бухгалтерия автономного учреждения</a:t>
            </a:r>
            <a:endParaRPr b="1" lang="en-US" sz="3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76720" y="5805360"/>
            <a:ext cx="3959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Докладчик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Должность</a:t>
            </a: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532944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Целевое финансирование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0728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1001"/>
              </a:spcAft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Учет целевого финансирования автономного учреждения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ведется на счете 86 «Целевое финансирование»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1001"/>
              </a:spcAft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Целевое финансирование из бюджета учитывается обособленно от целевых поступлений из других источников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1001"/>
              </a:spcAft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Аналитический учет на счете 86 ведется по источникам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и по статьям расходов целевых средств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spcAft>
                <a:spcPts val="901"/>
              </a:spcAft>
              <a:buSzPct val="11428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Источник целевых средств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определяет цели (целевой проект),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на которые были предоставлены целевые средств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spcAft>
                <a:spcPts val="901"/>
              </a:spcAft>
              <a:buSzPct val="11428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Статьи расходов целевых средств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– это конкретные статьи бюджета (сметы) для каждого целевого проект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49" name="Picture 6" descr="1"/>
          <p:cNvPicPr/>
          <p:nvPr/>
        </p:nvPicPr>
        <p:blipFill>
          <a:blip r:embed="rId6"/>
          <a:stretch/>
        </p:blipFill>
        <p:spPr>
          <a:xfrm>
            <a:off x="395280" y="4797360"/>
            <a:ext cx="820908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532944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Целевое финансирование:</a:t>
            </a:r>
            <a:br>
              <a:rPr sz="24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поступление целевых средств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4920" y="1125360"/>
            <a:ext cx="8280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1001"/>
              </a:spcAft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Поступление средств целевого финансирования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отражается по кредиту счета 86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76"/>
              </a:spcBef>
              <a:spcAft>
                <a:spcPts val="700"/>
              </a:spcAft>
              <a:buSzPct val="11428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В корреспонденции со счетами учета денежных средств, капитальных вложений и т. д.</a:t>
            </a:r>
            <a:br>
              <a:rPr sz="1800"/>
            </a:b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(учет ведется по мере фактического получения средств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76"/>
              </a:spcBef>
              <a:spcAft>
                <a:spcPts val="700"/>
              </a:spcAft>
              <a:buSzPct val="11428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В корреспонденции со счетом 76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«Расчеты с разными дебиторами и кредиторами»</a:t>
            </a:r>
            <a:br>
              <a:rPr sz="1800"/>
            </a:b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(учет ведется по факту принятия решения о выделении средств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1001"/>
              </a:spcAft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Аналитический учет расчетов по целевому финансированию ведется по контрагентам и назначениям целевых средств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spcAft>
                <a:spcPts val="901"/>
              </a:spcAft>
              <a:buSzPct val="11428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Контрагент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– КТО должен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spcAft>
                <a:spcPts val="901"/>
              </a:spcAft>
              <a:buSzPct val="11428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Назначение целевых средств –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ЗА ЧТО должен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50000"/>
              </a:lnSpc>
              <a:spcBef>
                <a:spcPts val="201"/>
              </a:spcBef>
              <a:spcAft>
                <a:spcPts val="799"/>
              </a:spcAft>
              <a:buSzPct val="154509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«Членские взносы за январь 2009 г.»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50000"/>
              </a:lnSpc>
              <a:spcBef>
                <a:spcPts val="201"/>
              </a:spcBef>
              <a:spcAft>
                <a:spcPts val="799"/>
              </a:spcAft>
              <a:buSzPct val="154509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«Членские взносы за февраль 2009 г.»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50000"/>
              </a:lnSpc>
              <a:spcBef>
                <a:spcPts val="201"/>
              </a:spcBef>
              <a:spcAft>
                <a:spcPts val="799"/>
              </a:spcAft>
              <a:buSzPct val="154509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«Целевая программа развития образования»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52" name="Picture 6" descr="2"/>
          <p:cNvPicPr/>
          <p:nvPr/>
        </p:nvPicPr>
        <p:blipFill>
          <a:blip r:embed="rId10"/>
          <a:stretch/>
        </p:blipFill>
        <p:spPr>
          <a:xfrm>
            <a:off x="395280" y="5445000"/>
            <a:ext cx="828036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532944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Целевое финансирование:</a:t>
            </a:r>
            <a:br>
              <a:rPr sz="24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использование целевых средств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3516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51"/>
              </a:spcBef>
              <a:spcAft>
                <a:spcPts val="1001"/>
              </a:spcAft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Использование средств целевого финансирования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отражается по дебету счета 86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spcAft>
                <a:spcPts val="1001"/>
              </a:spcAft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На финансирование капитальных вложений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75"/>
              </a:spcBef>
              <a:spcAft>
                <a:spcPts val="901"/>
              </a:spcAft>
              <a:buSzPct val="11428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В корреспонденции со счетом 83 «Добавочный капитал»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675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675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675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675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spcAft>
                <a:spcPts val="1001"/>
              </a:spcAft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На финансирование текущих расходов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75"/>
              </a:spcBef>
              <a:spcAft>
                <a:spcPts val="901"/>
              </a:spcAft>
              <a:buSzPct val="11428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В корреспонденции со счетами учета затрат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0 «Основное производство» и 26 «Общехозяйственные расходы»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55" name="Picture 8" descr="4"/>
          <p:cNvPicPr/>
          <p:nvPr/>
        </p:nvPicPr>
        <p:blipFill>
          <a:blip r:embed="rId6"/>
          <a:stretch/>
        </p:blipFill>
        <p:spPr>
          <a:xfrm>
            <a:off x="468360" y="5229360"/>
            <a:ext cx="8353440" cy="1315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3"/>
          <p:cNvPicPr/>
          <p:nvPr/>
        </p:nvPicPr>
        <p:blipFill>
          <a:blip r:embed="rId7"/>
          <a:stretch/>
        </p:blipFill>
        <p:spPr>
          <a:xfrm>
            <a:off x="468360" y="2708280"/>
            <a:ext cx="6624720" cy="11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532944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Особенности учета</a:t>
            </a:r>
            <a:br>
              <a:rPr sz="24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основных средств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208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Бухгалтерский учет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По объектам основных средств АУ начисляется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не амортизация, а износ на забалансовом счете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0 «Износ основных средств»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Независимо от источника их приобретения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Ежемесячно, линейным способом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Налоговый учет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Если объект основных средств приобретен за счет доходов от предпринимательской деятельности и используется 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для ее осуществления, он подлежит амортизации в порядке, установленном главой 25 НК РФ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В этом случае возникает постоянная разница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532944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Особенности учета НДС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785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Требования законодательства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По имуществу, приобретенному за счет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средств целевого финансирования,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НДС должен быть включен в стоимость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По имуществу, приобретенному за счет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доходов от предпринимательской деятельности,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НДС можно принять к вычету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Реализация в программе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Параметр учетной политики «Организация осуществляет предпринимательскую деятельность»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SzPct val="137233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Есть предпринимательская деятельность –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бухгалтер управляет включением НДС в стоимость самостоятельно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SzPct val="137233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Нет предпринимательской деятельности –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НДС будет включаться в стоимость всегд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532944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Особенности</a:t>
            </a:r>
            <a:br>
              <a:rPr sz="24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регламентированной отчетности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569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Реализована специализированная Форма № 1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«Бухгалтерский баланс»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 учетом рекомендаций Минфина</a:t>
            </a:r>
            <a:br>
              <a:rPr sz="2000"/>
            </a:b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к разделу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II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«Капитал и резервы»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Автоматизировано заполнение Формы № 6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«Отчет о целевом использовании полученных средств»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о данным бухгалтерского учета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Автоматизировано формирование регистров налогового учета целевых средств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Регистр учета поступлений целевых средств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Регистр учета использования целевых поступлений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63" name="Picture 6" descr=""/>
          <p:cNvPicPr/>
          <p:nvPr/>
        </p:nvPicPr>
        <p:blipFill>
          <a:blip r:embed="rId8"/>
          <a:stretch/>
        </p:blipFill>
        <p:spPr>
          <a:xfrm>
            <a:off x="755640" y="1268280"/>
            <a:ext cx="6583320" cy="53247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"/>
          <p:cNvPicPr/>
          <p:nvPr/>
        </p:nvPicPr>
        <p:blipFill>
          <a:blip r:embed="rId9"/>
          <a:stretch/>
        </p:blipFill>
        <p:spPr>
          <a:xfrm>
            <a:off x="1143000" y="1428840"/>
            <a:ext cx="6215040" cy="51642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"/>
          <p:cNvPicPr/>
          <p:nvPr/>
        </p:nvPicPr>
        <p:blipFill>
          <a:blip r:embed="rId10"/>
          <a:stretch/>
        </p:blipFill>
        <p:spPr>
          <a:xfrm>
            <a:off x="1187280" y="1733400"/>
            <a:ext cx="6624720" cy="48596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"/>
          <p:cNvPicPr/>
          <p:nvPr/>
        </p:nvPicPr>
        <p:blipFill>
          <a:blip r:embed="rId11"/>
          <a:stretch/>
        </p:blipFill>
        <p:spPr>
          <a:xfrm>
            <a:off x="1692360" y="2205000"/>
            <a:ext cx="6119640" cy="437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53290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Специализированные функции</a:t>
            </a:r>
            <a:br>
              <a:rPr sz="2000"/>
            </a:b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для образовательных учреждений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4247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24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3635280" y="1268280"/>
            <a:ext cx="482616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Учет расчетов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по родительской плате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Родительская плата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за содержание детей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в детских учреждениях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Плата за дополнительные образовательные услуги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170" name="Picture 17" descr="MPj04337310000[1]"/>
          <p:cNvPicPr/>
          <p:nvPr/>
        </p:nvPicPr>
        <p:blipFill>
          <a:blip r:embed="rId4"/>
          <a:stretch/>
        </p:blipFill>
        <p:spPr>
          <a:xfrm>
            <a:off x="5651640" y="3933720"/>
            <a:ext cx="1697040" cy="25052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2" descr="MPj04090480000[1]"/>
          <p:cNvPicPr/>
          <p:nvPr/>
        </p:nvPicPr>
        <p:blipFill>
          <a:blip r:embed="rId5"/>
          <a:stretch/>
        </p:blipFill>
        <p:spPr>
          <a:xfrm>
            <a:off x="357120" y="1428840"/>
            <a:ext cx="3219480" cy="21430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3"/>
          <p:cNvSpPr/>
          <p:nvPr/>
        </p:nvSpPr>
        <p:spPr>
          <a:xfrm>
            <a:off x="324000" y="4076640"/>
            <a:ext cx="482580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Учет расчетов со студентами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Платное обучение студентов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Прочие услуги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предоставление общежития)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53290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Ведение списков</a:t>
            </a:r>
            <a:br>
              <a:rPr sz="24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детей и студентов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4247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24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324000" y="1197000"/>
            <a:ext cx="864072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В отдельных справочниках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правочник «Дети»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правочник «Студенты»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Раздельно по учреждениям (организациям)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Различие понятий «Ребенок» и «Студент»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Элемент справочника «Дети» соответствует</a:t>
            </a:r>
            <a:br>
              <a:rPr sz="2000"/>
            </a:b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контрагенту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Элемент справочника «Студенты» соответствует</a:t>
            </a:r>
            <a:br>
              <a:rPr sz="2000"/>
            </a:b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договору с контрагентом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AutoShape 44"/>
          <p:cNvSpPr/>
          <p:nvPr/>
        </p:nvSpPr>
        <p:spPr>
          <a:xfrm>
            <a:off x="395280" y="5661000"/>
            <a:ext cx="835344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99">
                  <a:alpha val="50196"/>
                </a:srgbClr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Arial"/>
              </a:rPr>
              <a:t>Справочник «Договоры контрагентов»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7" name="AutoShape 43"/>
          <p:cNvSpPr/>
          <p:nvPr/>
        </p:nvSpPr>
        <p:spPr>
          <a:xfrm>
            <a:off x="395280" y="2781360"/>
            <a:ext cx="835344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99">
                  <a:alpha val="50196"/>
                </a:srgbClr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Arial"/>
              </a:rPr>
              <a:t>Справочник «Договоры контрагентов»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8" name="AutoShape 42"/>
          <p:cNvSpPr/>
          <p:nvPr/>
        </p:nvSpPr>
        <p:spPr>
          <a:xfrm>
            <a:off x="395280" y="4581360"/>
            <a:ext cx="8353440" cy="1009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99">
                  <a:alpha val="50196"/>
                </a:srgbClr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Arial"/>
              </a:rPr>
              <a:t>Справочник «Студенты»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9" name="AutoShape 41"/>
          <p:cNvSpPr/>
          <p:nvPr/>
        </p:nvSpPr>
        <p:spPr>
          <a:xfrm>
            <a:off x="395280" y="1989000"/>
            <a:ext cx="835344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99">
                  <a:alpha val="50196"/>
                </a:srgbClr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Arial"/>
              </a:rPr>
              <a:t>Справочник «Дети»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0" name="AutoShape 40"/>
          <p:cNvSpPr/>
          <p:nvPr/>
        </p:nvSpPr>
        <p:spPr>
          <a:xfrm>
            <a:off x="395280" y="3789360"/>
            <a:ext cx="835344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99">
                  <a:alpha val="50196"/>
                </a:srgbClr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Arial"/>
              </a:rPr>
              <a:t>Справочник «Контрагенты»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1" name="AutoShape 39"/>
          <p:cNvSpPr/>
          <p:nvPr/>
        </p:nvSpPr>
        <p:spPr>
          <a:xfrm>
            <a:off x="395280" y="1197000"/>
            <a:ext cx="835344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99">
                  <a:alpha val="50196"/>
                </a:srgbClr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Arial"/>
              </a:rPr>
              <a:t>Справочник «Контрагенты»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53290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Различие понятий</a:t>
            </a:r>
            <a:br>
              <a:rPr sz="24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«Ребенок» и «Студент»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83" name="AutoShape 5"/>
          <p:cNvSpPr/>
          <p:nvPr/>
        </p:nvSpPr>
        <p:spPr>
          <a:xfrm>
            <a:off x="826920" y="2852640"/>
            <a:ext cx="2016360" cy="4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969696"/>
            </a:solidFill>
            <a:miter/>
          </a:ln>
          <a:effectLst>
            <a:outerShdw dist="63504" dir="2216091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Младшая группа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4" name="AutoShape 6"/>
          <p:cNvSpPr/>
          <p:nvPr/>
        </p:nvSpPr>
        <p:spPr>
          <a:xfrm>
            <a:off x="3635280" y="2852640"/>
            <a:ext cx="2016360" cy="4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969696"/>
            </a:solidFill>
            <a:miter/>
          </a:ln>
          <a:effectLst>
            <a:outerShdw dist="63504" dir="2216091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Кружок рисования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5" name="AutoShape 7"/>
          <p:cNvSpPr/>
          <p:nvPr/>
        </p:nvSpPr>
        <p:spPr>
          <a:xfrm>
            <a:off x="6300720" y="2852640"/>
            <a:ext cx="2016360" cy="4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969696"/>
            </a:solidFill>
            <a:miter/>
          </a:ln>
          <a:effectLst>
            <a:outerShdw dist="63504" dir="2216091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Кружок плавания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6" name="AutoShape 8"/>
          <p:cNvSpPr/>
          <p:nvPr/>
        </p:nvSpPr>
        <p:spPr>
          <a:xfrm>
            <a:off x="3635280" y="2060640"/>
            <a:ext cx="201636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ffcc00"/>
            </a:solidFill>
            <a:miter/>
          </a:ln>
          <a:effectLst>
            <a:outerShdw dist="63504" dir="2216091" blurRad="0" rotWithShape="0">
              <a:srgbClr val="ff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Ребенок</a:t>
            </a:r>
            <a:br>
              <a:rPr sz="1800"/>
            </a:b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Вася Иванов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cxnSp>
        <p:nvCxnSpPr>
          <p:cNvPr id="187" name="AutoShape 9"/>
          <p:cNvCxnSpPr>
            <a:stCxn id="186" idx="2"/>
            <a:endCxn id="183" idx="0"/>
          </p:cNvCxnSpPr>
          <p:nvPr/>
        </p:nvCxnSpPr>
        <p:spPr>
          <a:xfrm flipH="1">
            <a:off x="1834920" y="2565360"/>
            <a:ext cx="2808720" cy="288000"/>
          </a:xfrm>
          <a:prstGeom prst="straightConnector1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188" name="AutoShape 10"/>
          <p:cNvCxnSpPr>
            <a:stCxn id="186" idx="2"/>
            <a:endCxn id="184" idx="0"/>
          </p:cNvCxnSpPr>
          <p:nvPr/>
        </p:nvCxnSpPr>
        <p:spPr>
          <a:xfrm>
            <a:off x="4642920" y="2565360"/>
            <a:ext cx="1080" cy="288000"/>
          </a:xfrm>
          <a:prstGeom prst="straightConnector1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189" name="AutoShape 11"/>
          <p:cNvCxnSpPr>
            <a:stCxn id="186" idx="2"/>
            <a:endCxn id="185" idx="0"/>
          </p:cNvCxnSpPr>
          <p:nvPr/>
        </p:nvCxnSpPr>
        <p:spPr>
          <a:xfrm>
            <a:off x="4643280" y="2565360"/>
            <a:ext cx="2666160" cy="288000"/>
          </a:xfrm>
          <a:prstGeom prst="straightConnector1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190" name="AutoShape 12"/>
          <p:cNvSpPr/>
          <p:nvPr/>
        </p:nvSpPr>
        <p:spPr>
          <a:xfrm>
            <a:off x="682560" y="4654440"/>
            <a:ext cx="180036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ffcc00"/>
            </a:solidFill>
            <a:miter/>
          </a:ln>
          <a:effectLst>
            <a:outerShdw dist="63504" dir="2216091" blurRad="0" rotWithShape="0">
              <a:srgbClr val="ff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Студент</a:t>
            </a:r>
            <a:br>
              <a:rPr sz="1800"/>
            </a:b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Иван Васильев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1" name="AutoShape 13"/>
          <p:cNvSpPr/>
          <p:nvPr/>
        </p:nvSpPr>
        <p:spPr>
          <a:xfrm>
            <a:off x="682560" y="5734080"/>
            <a:ext cx="1800360" cy="57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969696"/>
            </a:solidFill>
            <a:miter/>
          </a:ln>
          <a:effectLst>
            <a:outerShdw dist="63504" dir="2216091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Факультет</a:t>
            </a:r>
            <a:br>
              <a:rPr sz="1800"/>
            </a:b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Кибернетики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2" name="AutoShape 14"/>
          <p:cNvSpPr/>
          <p:nvPr/>
        </p:nvSpPr>
        <p:spPr>
          <a:xfrm>
            <a:off x="2698920" y="4654440"/>
            <a:ext cx="180000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99cc00"/>
            </a:solidFill>
            <a:miter/>
          </a:ln>
          <a:effectLst>
            <a:outerShdw dist="63504" dir="2216091" blurRad="0" rotWithShape="0">
              <a:srgbClr val="ccff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Студент</a:t>
            </a:r>
            <a:br>
              <a:rPr sz="1800"/>
            </a:b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Иван Васильев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3" name="AutoShape 15"/>
          <p:cNvSpPr/>
          <p:nvPr/>
        </p:nvSpPr>
        <p:spPr>
          <a:xfrm>
            <a:off x="4713120" y="4654440"/>
            <a:ext cx="180216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33cccc"/>
            </a:solidFill>
            <a:miter/>
          </a:ln>
          <a:effectLst>
            <a:outerShdw dist="63504" dir="2216091" blurRad="0" rotWithShape="0">
              <a:srgbClr val="99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Студент</a:t>
            </a:r>
            <a:br>
              <a:rPr sz="1800"/>
            </a:b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Иван Васильев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4" name="AutoShape 16"/>
          <p:cNvSpPr/>
          <p:nvPr/>
        </p:nvSpPr>
        <p:spPr>
          <a:xfrm>
            <a:off x="6730920" y="4654440"/>
            <a:ext cx="180036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ff99cc"/>
            </a:solidFill>
            <a:miter/>
          </a:ln>
          <a:effectLst>
            <a:outerShdw dist="63504" dir="2216091" blurRad="0" rotWithShape="0">
              <a:srgbClr val="ff99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Студент</a:t>
            </a:r>
            <a:br>
              <a:rPr sz="1800"/>
            </a:b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Иван Васильев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5" name="AutoShape 17"/>
          <p:cNvSpPr/>
          <p:nvPr/>
        </p:nvSpPr>
        <p:spPr>
          <a:xfrm>
            <a:off x="2698920" y="5734080"/>
            <a:ext cx="1800000" cy="57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969696"/>
            </a:solidFill>
            <a:miter/>
          </a:ln>
          <a:effectLst>
            <a:outerShdw dist="63504" dir="2216091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Факультет</a:t>
            </a:r>
            <a:br>
              <a:rPr sz="1800"/>
            </a:b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Экономический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6" name="AutoShape 18"/>
          <p:cNvSpPr/>
          <p:nvPr/>
        </p:nvSpPr>
        <p:spPr>
          <a:xfrm>
            <a:off x="4713120" y="5734080"/>
            <a:ext cx="1800360" cy="57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969696"/>
            </a:solidFill>
            <a:miter/>
          </a:ln>
          <a:effectLst>
            <a:outerShdw dist="63504" dir="2216091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Платный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курс английского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7" name="AutoShape 19"/>
          <p:cNvSpPr/>
          <p:nvPr/>
        </p:nvSpPr>
        <p:spPr>
          <a:xfrm>
            <a:off x="6730920" y="5734080"/>
            <a:ext cx="1800360" cy="57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969696"/>
            </a:solidFill>
            <a:miter/>
          </a:ln>
          <a:effectLst>
            <a:outerShdw dist="63504" dir="2216091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Предоставление</a:t>
            </a:r>
            <a:br>
              <a:rPr sz="1800"/>
            </a:b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общежития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cxnSp>
        <p:nvCxnSpPr>
          <p:cNvPr id="198" name="AutoShape 24"/>
          <p:cNvCxnSpPr>
            <a:stCxn id="190" idx="2"/>
            <a:endCxn id="191" idx="0"/>
          </p:cNvCxnSpPr>
          <p:nvPr/>
        </p:nvCxnSpPr>
        <p:spPr>
          <a:xfrm>
            <a:off x="1582200" y="5230800"/>
            <a:ext cx="1080" cy="504000"/>
          </a:xfrm>
          <a:prstGeom prst="straightConnector1">
            <a:avLst/>
          </a:prstGeom>
          <a:ln w="9360">
            <a:solidFill>
              <a:srgbClr val="ff9900"/>
            </a:solidFill>
            <a:miter/>
          </a:ln>
        </p:spPr>
      </p:cxnSp>
      <p:cxnSp>
        <p:nvCxnSpPr>
          <p:cNvPr id="199" name="AutoShape 26"/>
          <p:cNvCxnSpPr>
            <a:stCxn id="192" idx="2"/>
            <a:endCxn id="195" idx="0"/>
          </p:cNvCxnSpPr>
          <p:nvPr/>
        </p:nvCxnSpPr>
        <p:spPr>
          <a:xfrm>
            <a:off x="3598560" y="5230800"/>
            <a:ext cx="1080" cy="504000"/>
          </a:xfrm>
          <a:prstGeom prst="straightConnector1">
            <a:avLst/>
          </a:prstGeom>
          <a:ln w="9360">
            <a:solidFill>
              <a:srgbClr val="ff9900"/>
            </a:solidFill>
            <a:miter/>
          </a:ln>
        </p:spPr>
      </p:cxnSp>
      <p:cxnSp>
        <p:nvCxnSpPr>
          <p:cNvPr id="200" name="AutoShape 27"/>
          <p:cNvCxnSpPr>
            <a:stCxn id="193" idx="2"/>
            <a:endCxn id="196" idx="0"/>
          </p:cNvCxnSpPr>
          <p:nvPr/>
        </p:nvCxnSpPr>
        <p:spPr>
          <a:xfrm flipH="1">
            <a:off x="5613120" y="5230800"/>
            <a:ext cx="2160" cy="504000"/>
          </a:xfrm>
          <a:prstGeom prst="straightConnector1">
            <a:avLst/>
          </a:prstGeom>
          <a:ln w="9360">
            <a:solidFill>
              <a:srgbClr val="ff9900"/>
            </a:solidFill>
            <a:miter/>
          </a:ln>
        </p:spPr>
      </p:cxnSp>
      <p:cxnSp>
        <p:nvCxnSpPr>
          <p:cNvPr id="201" name="AutoShape 29"/>
          <p:cNvCxnSpPr>
            <a:stCxn id="194" idx="2"/>
            <a:endCxn id="197" idx="0"/>
          </p:cNvCxnSpPr>
          <p:nvPr/>
        </p:nvCxnSpPr>
        <p:spPr>
          <a:xfrm>
            <a:off x="7630920" y="5230800"/>
            <a:ext cx="1080" cy="504000"/>
          </a:xfrm>
          <a:prstGeom prst="straightConnector1">
            <a:avLst/>
          </a:prstGeom>
          <a:ln w="9360">
            <a:solidFill>
              <a:srgbClr val="ff9900"/>
            </a:solidFill>
            <a:miter/>
          </a:ln>
        </p:spPr>
      </p:cxnSp>
      <p:sp>
        <p:nvSpPr>
          <p:cNvPr id="202" name="AutoShape 32"/>
          <p:cNvSpPr/>
          <p:nvPr/>
        </p:nvSpPr>
        <p:spPr>
          <a:xfrm>
            <a:off x="3635280" y="1270080"/>
            <a:ext cx="201636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22320">
            <a:solidFill>
              <a:srgbClr val="ff9900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6600"/>
                </a:solidFill>
                <a:latin typeface="Arial"/>
              </a:rPr>
              <a:t>Контрагент</a:t>
            </a:r>
            <a:br>
              <a:rPr sz="1600"/>
            </a:br>
            <a:r>
              <a:rPr b="0" lang="en-US" sz="1600" spc="-1" strike="noStrike">
                <a:solidFill>
                  <a:srgbClr val="cc6600"/>
                </a:solidFill>
                <a:latin typeface="Arial"/>
              </a:rPr>
              <a:t>Вася Иванов</a:t>
            </a: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3" name="AutoShape 33"/>
          <p:cNvSpPr/>
          <p:nvPr/>
        </p:nvSpPr>
        <p:spPr>
          <a:xfrm>
            <a:off x="3562200" y="3862440"/>
            <a:ext cx="201636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22320">
            <a:solidFill>
              <a:srgbClr val="ff9900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6600"/>
                </a:solidFill>
                <a:latin typeface="Arial"/>
              </a:rPr>
              <a:t>Контрагент</a:t>
            </a:r>
            <a:br>
              <a:rPr sz="1600"/>
            </a:br>
            <a:r>
              <a:rPr b="0" lang="en-US" sz="1600" spc="-1" strike="noStrike">
                <a:solidFill>
                  <a:srgbClr val="cc6600"/>
                </a:solidFill>
                <a:latin typeface="Arial"/>
              </a:rPr>
              <a:t>Иван Васильев</a:t>
            </a: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cxnSp>
        <p:nvCxnSpPr>
          <p:cNvPr id="204" name="AutoShape 34"/>
          <p:cNvCxnSpPr>
            <a:stCxn id="186" idx="0"/>
            <a:endCxn id="202" idx="2"/>
          </p:cNvCxnSpPr>
          <p:nvPr/>
        </p:nvCxnSpPr>
        <p:spPr>
          <a:xfrm flipV="1">
            <a:off x="4642920" y="1783800"/>
            <a:ext cx="1080" cy="276840"/>
          </a:xfrm>
          <a:prstGeom prst="straightConnector1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205" name="AutoShape 35"/>
          <p:cNvCxnSpPr>
            <a:stCxn id="190" idx="0"/>
            <a:endCxn id="203" idx="2"/>
          </p:cNvCxnSpPr>
          <p:nvPr/>
        </p:nvCxnSpPr>
        <p:spPr>
          <a:xfrm flipV="1">
            <a:off x="1582560" y="4376160"/>
            <a:ext cx="2988720" cy="278280"/>
          </a:xfrm>
          <a:prstGeom prst="straightConnector1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206" name="AutoShape 36"/>
          <p:cNvCxnSpPr>
            <a:stCxn id="192" idx="0"/>
            <a:endCxn id="203" idx="2"/>
          </p:cNvCxnSpPr>
          <p:nvPr/>
        </p:nvCxnSpPr>
        <p:spPr>
          <a:xfrm flipV="1">
            <a:off x="3598560" y="4376160"/>
            <a:ext cx="972360" cy="278280"/>
          </a:xfrm>
          <a:prstGeom prst="straightConnector1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207" name="AutoShape 37"/>
          <p:cNvCxnSpPr>
            <a:stCxn id="193" idx="0"/>
            <a:endCxn id="203" idx="2"/>
          </p:cNvCxnSpPr>
          <p:nvPr/>
        </p:nvCxnSpPr>
        <p:spPr>
          <a:xfrm flipH="1" flipV="1">
            <a:off x="4569840" y="4376160"/>
            <a:ext cx="1045080" cy="278280"/>
          </a:xfrm>
          <a:prstGeom prst="straightConnector1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208" name="AutoShape 38"/>
          <p:cNvCxnSpPr>
            <a:stCxn id="194" idx="0"/>
            <a:endCxn id="203" idx="2"/>
          </p:cNvCxnSpPr>
          <p:nvPr/>
        </p:nvCxnSpPr>
        <p:spPr>
          <a:xfrm flipH="1" flipV="1">
            <a:off x="4570200" y="4376160"/>
            <a:ext cx="3061440" cy="278280"/>
          </a:xfrm>
          <a:prstGeom prst="straightConnector1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532944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Учет и отчетность по взаиморасчетам</a:t>
            </a:r>
            <a:br>
              <a:rPr sz="2000"/>
            </a:b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с родителями и студентами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424720" cy="53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Расчеты по родительской плате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Выписка квитанций на оплату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Начисление родительской платы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Печать табеля учета посещаемости детей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Формирование ведомости по расчетам с родителями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за содержание детей в детском учреждении (ф. 327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за дополнительные образовательные услуги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Формирование ведомости расчета компенсации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родительской платы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Формирование отчета по оплате квитанций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Расчеты со студентами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Начисления за платное обучение и прочие услуги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Формирование ведомости по расчетам со студентами (ф. 809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1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за платное обучение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1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за прочие услуги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532944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О чем пойдет речь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756108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Новый продукт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«1С:Бухгалтерия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автономного учреждения 8»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Что такое автономное учреждение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Для кого предназначен этот продукт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Характеристика конфигурации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Особенности учета в автономных учреждениях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Функциональные возможности конфигурации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6" name="Picture 4" descr="MCj04326400000[1]"/>
          <p:cNvPicPr/>
          <p:nvPr/>
        </p:nvPicPr>
        <p:blipFill>
          <a:blip r:embed="rId7"/>
          <a:stretch/>
        </p:blipFill>
        <p:spPr>
          <a:xfrm>
            <a:off x="6732720" y="4797360"/>
            <a:ext cx="223344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532944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Ставки оплаты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424720" cy="53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Ставка оплаты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Arial"/>
              </a:rPr>
              <a:t>фиксированная ставка за месяц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Arial"/>
              </a:rPr>
              <a:t>переменная ставка за месяц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Arial"/>
              </a:rPr>
              <a:t>ставка за день (за посещение)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Arial"/>
              </a:rPr>
              <a:t>процент льготы (скидки)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Преимущества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по сравнению </a:t>
            </a:r>
            <a:br>
              <a:rPr sz="2600"/>
            </a:b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с «Бухгалтерией для бюджетных учреждений 7.7»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Arial"/>
              </a:rPr>
              <a:t>Перечень ставок оплаты «на одном листе»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Arial"/>
              </a:rPr>
              <a:t>Возможность автоматического расчета суммы начисления для любых видов услуг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Arial"/>
              </a:rPr>
              <a:t>При изменении тарифов на услуги нужно</a:t>
            </a:r>
            <a:br>
              <a:rPr sz="2200"/>
            </a:br>
            <a:r>
              <a:rPr b="0" lang="ru-RU" sz="2200" spc="-1" strike="noStrike">
                <a:solidFill>
                  <a:srgbClr val="000099"/>
                </a:solidFill>
                <a:latin typeface="Arial"/>
              </a:rPr>
              <a:t>просто изменить параметры ставки оплаты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4872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Переход с предыдущих версий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96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spcAft>
                <a:spcPts val="13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Действуют обычные условия апгрейда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spcAft>
                <a:spcPts val="13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Приобрести продукт на условиях апгрейда могут пользователи предыдущих версий программных продуктов: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«1С:Бухгалтерия для бюджетных учреждений 7.7»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«1С:Бухгалтерия 7.7»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«1С:Бухгалтерия 7.7. Упрощенная система налогообложения. Базовая версия»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«1С:Бухгалтерия 8»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При переходе с указанных программных продуктов предусмотрен механизм переноса данных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2050920" y="6093000"/>
            <a:ext cx="6985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1312920"/>
            <a:ext cx="9144000" cy="20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r>
              <a:rPr b="1" lang="ru-RU" sz="3000" spc="-1" strike="noStrike">
                <a:solidFill>
                  <a:srgbClr val="000066"/>
                </a:solidFill>
                <a:latin typeface="Arial"/>
              </a:rPr>
              <a:t>Бухгалтерия автономного учреждения</a:t>
            </a:r>
            <a:endParaRPr b="1" lang="en-US" sz="3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3635280" y="3645000"/>
            <a:ext cx="450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3300"/>
                </a:solidFill>
                <a:latin typeface="Arial"/>
              </a:rPr>
              <a:t>Спасибо за внимание!</a:t>
            </a:r>
            <a:endParaRPr b="0" lang="en-US" sz="25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4872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Что такое автономные учреждения 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35344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Автономные учреждения (АУ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901"/>
              </a:spcAft>
              <a:buSzPct val="11428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Некоммерческие организации, созданные РФ для выполнения работ, оказания услуг в сферах образования, здравоохранения, науки, культуры, спорта, социальной защиты и других сферах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901"/>
              </a:spcAft>
              <a:buSzPct val="11428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Могут создаваться путем учреждения или изменения типа существующего бюджетного учреждения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" name="Organization Chart 5"/>
          <p:cNvGrpSpPr/>
          <p:nvPr/>
        </p:nvGrpSpPr>
        <p:grpSpPr>
          <a:xfrm>
            <a:off x="1230120" y="3481200"/>
            <a:ext cx="5372280" cy="2486160"/>
            <a:chOff x="1230120" y="3481200"/>
            <a:chExt cx="5372280" cy="2486160"/>
          </a:xfrm>
        </p:grpSpPr>
        <p:cxnSp>
          <p:nvCxnSpPr>
            <p:cNvPr id="100" name="_s1028"/>
            <p:cNvCxnSpPr>
              <a:stCxn id="101" idx="2"/>
              <a:endCxn id="102" idx="0"/>
            </p:cNvCxnSpPr>
            <p:nvPr/>
          </p:nvCxnSpPr>
          <p:spPr>
            <a:xfrm rot="5400000">
              <a:off x="3344400" y="3320280"/>
              <a:ext cx="182520" cy="1486440"/>
            </a:xfrm>
            <a:prstGeom prst="bentConnector3">
              <a:avLst>
                <a:gd name="adj1" fmla="val 498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3" name="_s1029"/>
            <p:cNvCxnSpPr>
              <a:stCxn id="104" idx="0"/>
              <a:endCxn id="101" idx="2"/>
            </p:cNvCxnSpPr>
            <p:nvPr/>
          </p:nvCxnSpPr>
          <p:spPr>
            <a:xfrm flipV="1" rot="16200000">
              <a:off x="5127840" y="3022560"/>
              <a:ext cx="182520" cy="2081160"/>
            </a:xfrm>
            <a:prstGeom prst="bentConnector3">
              <a:avLst>
                <a:gd name="adj1" fmla="val 498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1030"/>
            <p:cNvCxnSpPr>
              <a:stCxn id="106" idx="0"/>
              <a:endCxn id="101" idx="2"/>
            </p:cNvCxnSpPr>
            <p:nvPr/>
          </p:nvCxnSpPr>
          <p:spPr>
            <a:xfrm flipV="1" rot="16200000">
              <a:off x="4642200" y="3508200"/>
              <a:ext cx="182520" cy="1109520"/>
            </a:xfrm>
            <a:prstGeom prst="bentConnector3">
              <a:avLst>
                <a:gd name="adj1" fmla="val 498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7" name="_s1031"/>
            <p:cNvCxnSpPr>
              <a:stCxn id="108" idx="0"/>
              <a:endCxn id="101" idx="2"/>
            </p:cNvCxnSpPr>
            <p:nvPr/>
          </p:nvCxnSpPr>
          <p:spPr>
            <a:xfrm flipV="1" rot="16200000">
              <a:off x="4185000" y="3965400"/>
              <a:ext cx="182520" cy="195120"/>
            </a:xfrm>
            <a:prstGeom prst="bentConnector3">
              <a:avLst>
                <a:gd name="adj1" fmla="val 498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9" name="_s1032"/>
            <p:cNvCxnSpPr>
              <a:stCxn id="110" idx="0"/>
              <a:endCxn id="111" idx="2"/>
            </p:cNvCxnSpPr>
            <p:nvPr/>
          </p:nvCxnSpPr>
          <p:spPr>
            <a:xfrm flipV="1" rot="16200000">
              <a:off x="4302720" y="5183640"/>
              <a:ext cx="141480" cy="7999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2" name="_s1033"/>
            <p:cNvCxnSpPr>
              <a:stCxn id="113" idx="0"/>
              <a:endCxn id="111" idx="2"/>
            </p:cNvCxnSpPr>
            <p:nvPr/>
          </p:nvCxnSpPr>
          <p:spPr>
            <a:xfrm flipH="1" flipV="1" rot="5400000">
              <a:off x="3503160" y="5183280"/>
              <a:ext cx="141480" cy="8013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4" name="_s1034"/>
            <p:cNvCxnSpPr>
              <a:stCxn id="111" idx="0"/>
              <a:endCxn id="102" idx="2"/>
            </p:cNvCxnSpPr>
            <p:nvPr/>
          </p:nvCxnSpPr>
          <p:spPr>
            <a:xfrm flipV="1" rot="16200000">
              <a:off x="3242160" y="3966480"/>
              <a:ext cx="181800" cy="12812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5" name="_s1035"/>
            <p:cNvCxnSpPr>
              <a:stCxn id="116" idx="0"/>
              <a:endCxn id="102" idx="2"/>
            </p:cNvCxnSpPr>
            <p:nvPr/>
          </p:nvCxnSpPr>
          <p:spPr>
            <a:xfrm flipH="1" flipV="1" rot="5400000">
              <a:off x="2185200" y="4189680"/>
              <a:ext cx="181800" cy="8352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2" name="_s1036"/>
            <p:cNvSpPr/>
            <p:nvPr/>
          </p:nvSpPr>
          <p:spPr>
            <a:xfrm>
              <a:off x="1801440" y="4154760"/>
              <a:ext cx="1783080" cy="362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Учреждения</a:t>
              </a:r>
              <a:endParaRPr b="0" lang="en-US" sz="1200" spc="-1" strike="noStrike">
                <a:solidFill>
                  <a:srgbClr val="ff9900"/>
                </a:solidFill>
                <a:latin typeface="Arial"/>
              </a:endParaRPr>
            </a:p>
          </p:txBody>
        </p:sp>
        <p:sp>
          <p:nvSpPr>
            <p:cNvPr id="116" name="_s1037"/>
            <p:cNvSpPr/>
            <p:nvPr/>
          </p:nvSpPr>
          <p:spPr>
            <a:xfrm>
              <a:off x="1230120" y="4698000"/>
              <a:ext cx="1257120" cy="8157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3399"/>
                  </a:solidFill>
                  <a:latin typeface="Arial"/>
                </a:rPr>
                <a:t>Частное</a:t>
              </a:r>
              <a:endParaRPr b="0" lang="en-US" sz="1200" spc="-1" strike="noStrike">
                <a:solidFill>
                  <a:srgbClr val="ff99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3399"/>
                  </a:solidFill>
                  <a:latin typeface="Arial"/>
                </a:rPr>
                <a:t>(создается гражданином или юрлицом)</a:t>
              </a:r>
              <a:endParaRPr b="0" lang="en-US" sz="1200" spc="-1" strike="noStrike">
                <a:solidFill>
                  <a:srgbClr val="ff9900"/>
                </a:solidFill>
                <a:latin typeface="Arial"/>
              </a:endParaRPr>
            </a:p>
          </p:txBody>
        </p:sp>
        <p:sp>
          <p:nvSpPr>
            <p:cNvPr id="111" name="_s1038"/>
            <p:cNvSpPr/>
            <p:nvPr/>
          </p:nvSpPr>
          <p:spPr>
            <a:xfrm>
              <a:off x="2715840" y="4698000"/>
              <a:ext cx="2515320" cy="8157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3399"/>
                  </a:solidFill>
                  <a:latin typeface="Arial"/>
                </a:rPr>
                <a:t>Государственное </a:t>
              </a:r>
              <a:br>
                <a:rPr sz="1200"/>
              </a:br>
              <a:r>
                <a:rPr b="1" lang="ru-RU" sz="1200" spc="-1" strike="noStrike">
                  <a:solidFill>
                    <a:srgbClr val="003399"/>
                  </a:solidFill>
                  <a:latin typeface="Arial"/>
                </a:rPr>
                <a:t>или муниципальное</a:t>
              </a:r>
              <a:endParaRPr b="0" lang="en-US" sz="1200" spc="-1" strike="noStrike">
                <a:solidFill>
                  <a:srgbClr val="ff99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3399"/>
                  </a:solidFill>
                  <a:latin typeface="Arial"/>
                </a:rPr>
                <a:t>(создается РФ, субъектом РФ, муниципальным образованием)</a:t>
              </a:r>
              <a:endParaRPr b="0" lang="en-US" sz="1200" spc="-1" strike="noStrike">
                <a:solidFill>
                  <a:srgbClr val="ff9900"/>
                </a:solidFill>
                <a:latin typeface="Arial"/>
              </a:endParaRPr>
            </a:p>
          </p:txBody>
        </p:sp>
        <p:sp>
          <p:nvSpPr>
            <p:cNvPr id="113" name="_s1039"/>
            <p:cNvSpPr/>
            <p:nvPr/>
          </p:nvSpPr>
          <p:spPr>
            <a:xfrm>
              <a:off x="2487600" y="5654520"/>
              <a:ext cx="1371600" cy="312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Бюджетное (БУ)</a:t>
              </a:r>
              <a:endParaRPr b="0" lang="en-US" sz="1200" spc="-1" strike="noStrike">
                <a:solidFill>
                  <a:srgbClr val="ff9900"/>
                </a:solidFill>
                <a:latin typeface="Arial"/>
              </a:endParaRPr>
            </a:p>
          </p:txBody>
        </p:sp>
        <p:sp>
          <p:nvSpPr>
            <p:cNvPr id="110" name="_s1040"/>
            <p:cNvSpPr/>
            <p:nvPr/>
          </p:nvSpPr>
          <p:spPr>
            <a:xfrm>
              <a:off x="4087800" y="5654520"/>
              <a:ext cx="1371600" cy="31284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Автономное (АУ)</a:t>
              </a:r>
              <a:endParaRPr b="0" lang="en-US" sz="1200" spc="-1" strike="noStrike">
                <a:solidFill>
                  <a:srgbClr val="ff9900"/>
                </a:solidFill>
                <a:latin typeface="Arial"/>
              </a:endParaRPr>
            </a:p>
          </p:txBody>
        </p:sp>
        <p:sp>
          <p:nvSpPr>
            <p:cNvPr id="108" name="_s1041"/>
            <p:cNvSpPr/>
            <p:nvPr/>
          </p:nvSpPr>
          <p:spPr>
            <a:xfrm>
              <a:off x="3973320" y="4154760"/>
              <a:ext cx="799920" cy="362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АНО</a:t>
              </a:r>
              <a:endParaRPr b="0" lang="en-US" sz="1200" spc="-1" strike="noStrike">
                <a:solidFill>
                  <a:srgbClr val="ff9900"/>
                </a:solidFill>
                <a:latin typeface="Arial"/>
              </a:endParaRPr>
            </a:p>
          </p:txBody>
        </p:sp>
        <p:sp>
          <p:nvSpPr>
            <p:cNvPr id="106" name="_s1042"/>
            <p:cNvSpPr/>
            <p:nvPr/>
          </p:nvSpPr>
          <p:spPr>
            <a:xfrm>
              <a:off x="4887720" y="4154760"/>
              <a:ext cx="799920" cy="362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Фонды</a:t>
              </a:r>
              <a:endParaRPr b="0" lang="en-US" sz="1200" spc="-1" strike="noStrike">
                <a:solidFill>
                  <a:srgbClr val="ff9900"/>
                </a:solidFill>
                <a:latin typeface="Arial"/>
              </a:endParaRPr>
            </a:p>
          </p:txBody>
        </p:sp>
        <p:sp>
          <p:nvSpPr>
            <p:cNvPr id="104" name="_s1043"/>
            <p:cNvSpPr/>
            <p:nvPr/>
          </p:nvSpPr>
          <p:spPr>
            <a:xfrm>
              <a:off x="5916600" y="4154760"/>
              <a:ext cx="685800" cy="362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ff9900"/>
                </a:solidFill>
                <a:latin typeface="Arial"/>
              </a:endParaRPr>
            </a:p>
          </p:txBody>
        </p:sp>
        <p:sp>
          <p:nvSpPr>
            <p:cNvPr id="101" name="_s1044"/>
            <p:cNvSpPr/>
            <p:nvPr/>
          </p:nvSpPr>
          <p:spPr>
            <a:xfrm>
              <a:off x="3287520" y="3481200"/>
              <a:ext cx="1783080" cy="491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Некоммерческие организации (НКО)</a:t>
              </a:r>
              <a:endParaRPr b="0" lang="en-US" sz="1200" spc="-1" strike="noStrike">
                <a:solidFill>
                  <a:srgbClr val="ff99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532944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Автономные учреждения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353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Распоряжение Правительства РФ №1313-р от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13.09.2008 </a:t>
            </a:r>
            <a:br>
              <a:rPr sz="2000"/>
            </a:b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«О реализации указа Президента об оценке эффективности</a:t>
            </a:r>
            <a:br>
              <a:rPr sz="2000"/>
            </a:b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деятельности органов местного самоуправления</a:t>
            </a:r>
            <a:br>
              <a:rPr sz="2000"/>
            </a:b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городских округов и муниципальных районов»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901"/>
              </a:spcAft>
              <a:buSzPct val="11428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«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казателями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, по которым динамика роста свидетельствует </a:t>
            </a:r>
            <a:br>
              <a:rPr sz="1800"/>
            </a:b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об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эффективности деятельности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органов местного самоуправления </a:t>
            </a:r>
            <a:br>
              <a:rPr sz="1800"/>
            </a:b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в сфере организации муниципального управления, являются:</a:t>
            </a:r>
            <a:br>
              <a:rPr sz="1800"/>
            </a:b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…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доля муниципальных автономных учреждений от общего числа муниципальных учреждений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(бюджетных и автономных) в городском округе (муниципальном районе). Этот показатель позволяет оценить степень внедрения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ового типа муниципальных учреждений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−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автономных учреждений, большая финансовая </a:t>
            </a:r>
            <a:br>
              <a:rPr sz="1800"/>
            </a:b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рганизационная самостоятельность которых </a:t>
            </a:r>
            <a:br>
              <a:rPr sz="1800"/>
            </a:b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зволяет эффективнее управлять имеющимися </a:t>
            </a:r>
            <a:br>
              <a:rPr sz="1800"/>
            </a:b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есурсами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, обеспечивая при этом рост заработной </a:t>
            </a:r>
            <a:br>
              <a:rPr sz="1800"/>
            </a:b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латы и улучшение качества предоставляемых услуг»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532944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Автономные учреждения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8000" y="1196640"/>
            <a:ext cx="8353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Распоряжение от 17 ноября 2008 г. №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1663-р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«Основные направления деятельности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Правительства Российской Федерации»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на период до 2012 года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Качественное и доступное здравоохранение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«следует стимулировать изменение организационно-правовых форм, в том числе преобразование бюджетных учреждений здравоохранения в автономные. </a:t>
            </a:r>
            <a:br>
              <a:rPr sz="2000"/>
            </a:b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К 2012 году до 15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  <a:ea typeface="Arial"/>
              </a:rPr>
              <a:t>−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20 процентов таких учреждений перейдут </a:t>
            </a:r>
            <a:br>
              <a:rPr sz="2000"/>
            </a:b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в другие организационно-правовые формы, в том числе </a:t>
            </a:r>
            <a:br>
              <a:rPr sz="2000"/>
            </a:b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в форму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автономных учреждений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532944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Автономные учреждения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353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Развитие дошкольного образования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«Следует принять меры к постепенному изменению</a:t>
            </a:r>
            <a:br>
              <a:rPr sz="2000"/>
            </a:b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организационно-правовых форм дошкольных учреждений»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Комплексная модернизация высшего профессионального образования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«Активизируется работа по внедрению нормативно-подушевых механизмов оплаты образовательных услуг</a:t>
            </a:r>
            <a:br>
              <a:rPr sz="2000"/>
            </a:b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 одновременным переводом образовательных учреждений</a:t>
            </a:r>
            <a:br>
              <a:rPr sz="2000"/>
            </a:b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в форму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автономных учреждений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532944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Автономные учреждения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353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Развитие культуры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«Предстоит начать поэтапный переход к новым</a:t>
            </a:r>
            <a:br>
              <a:rPr sz="2000"/>
            </a:b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организационно-правовым формам организаций культуры</a:t>
            </a:r>
            <a:br>
              <a:rPr sz="2000"/>
            </a:b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автономные учреждения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)»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Эффективное государство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«Будет установлен с 1 января 2009 г. порядок формирования и финансового обеспечения выполнения государственных заданий на оказание государственных услуг… Это … создаст стимулы для более широкого участия в предоставлении государственных услуг федеральными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автономными учреждениями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4872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Для кого предназначен продукт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0647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75"/>
              </a:spcBef>
              <a:spcAft>
                <a:spcPts val="901"/>
              </a:spcAft>
              <a:buSzPct val="13723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одукт предназначен для автоматизации бухгалтерского учета автономных учреждений, созданных в соответствии с ФЗ</a:t>
            </a:r>
            <a:br>
              <a:rPr sz="1800"/>
            </a:b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«Об автономных учреждениях» от 03.11.2006 года №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174-ФЗ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spcAft>
                <a:spcPts val="901"/>
              </a:spcAft>
              <a:buSzPct val="1372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Характерные черты автономных учреждений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75"/>
              </a:spcBef>
              <a:spcAft>
                <a:spcPts val="901"/>
              </a:spcAft>
              <a:buSzPct val="11428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Ведут учет на хозрасчетном плане счетов</a:t>
            </a:r>
            <a:br>
              <a:rPr sz="1800"/>
            </a:b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(утв. приказом Минфина от 31.10.2000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№ 94н),</a:t>
            </a:r>
            <a:br>
              <a:rPr sz="1800"/>
            </a:b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аналогично коммерческим организациям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75"/>
              </a:spcBef>
              <a:spcAft>
                <a:spcPts val="901"/>
              </a:spcAft>
              <a:buSzPct val="11428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Финансирование основной деятельности осуществляется</a:t>
            </a:r>
            <a:br>
              <a:rPr sz="1800"/>
            </a:b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из бюджета в соответствии с заданием учредителя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государства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75"/>
              </a:spcBef>
              <a:spcAft>
                <a:spcPts val="901"/>
              </a:spcAft>
              <a:buSzPct val="11428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Могут оказывать услуги за плату</a:t>
            </a:r>
            <a:br>
              <a:rPr sz="1800"/>
            </a:b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и самостоятельно распоряжаться доходами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spcAft>
                <a:spcPts val="901"/>
              </a:spcAft>
              <a:buSzPct val="13723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едполагаем, что продукт с большой вероятностью подойдет</a:t>
            </a:r>
            <a:br>
              <a:rPr sz="1800"/>
            </a:b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и другим некоммерческим организациям (НКО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7" name="Organization Chart 4"/>
          <p:cNvGrpSpPr/>
          <p:nvPr/>
        </p:nvGrpSpPr>
        <p:grpSpPr>
          <a:xfrm>
            <a:off x="866520" y="4834080"/>
            <a:ext cx="5207400" cy="1553040"/>
            <a:chOff x="866520" y="4834080"/>
            <a:chExt cx="5207400" cy="1553040"/>
          </a:xfrm>
        </p:grpSpPr>
        <p:cxnSp>
          <p:nvCxnSpPr>
            <p:cNvPr id="128" name="_s3076"/>
            <p:cNvCxnSpPr>
              <a:stCxn id="129" idx="2"/>
              <a:endCxn id="130" idx="0"/>
            </p:cNvCxnSpPr>
            <p:nvPr/>
          </p:nvCxnSpPr>
          <p:spPr>
            <a:xfrm rot="5400000">
              <a:off x="2940480" y="4515480"/>
              <a:ext cx="126000" cy="1440000"/>
            </a:xfrm>
            <a:prstGeom prst="bentConnector3">
              <a:avLst>
                <a:gd name="adj1" fmla="val 4985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1" name="_s3077"/>
            <p:cNvCxnSpPr>
              <a:stCxn id="132" idx="0"/>
              <a:endCxn id="129" idx="2"/>
            </p:cNvCxnSpPr>
            <p:nvPr/>
          </p:nvCxnSpPr>
          <p:spPr>
            <a:xfrm flipV="1" rot="16200000">
              <a:off x="4668480" y="4226400"/>
              <a:ext cx="126000" cy="2016720"/>
            </a:xfrm>
            <a:prstGeom prst="bentConnector3">
              <a:avLst>
                <a:gd name="adj1" fmla="val 4985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3" name="_s3078"/>
            <p:cNvCxnSpPr>
              <a:stCxn id="134" idx="0"/>
              <a:endCxn id="129" idx="2"/>
            </p:cNvCxnSpPr>
            <p:nvPr/>
          </p:nvCxnSpPr>
          <p:spPr>
            <a:xfrm flipV="1" rot="16200000">
              <a:off x="4198320" y="4696560"/>
              <a:ext cx="126000" cy="1076400"/>
            </a:xfrm>
            <a:prstGeom prst="bentConnector3">
              <a:avLst>
                <a:gd name="adj1" fmla="val 4985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5" name="_s3079"/>
            <p:cNvCxnSpPr>
              <a:stCxn id="136" idx="0"/>
              <a:endCxn id="129" idx="2"/>
            </p:cNvCxnSpPr>
            <p:nvPr/>
          </p:nvCxnSpPr>
          <p:spPr>
            <a:xfrm flipV="1" rot="16200000">
              <a:off x="3754440" y="5140440"/>
              <a:ext cx="126000" cy="189000"/>
            </a:xfrm>
            <a:prstGeom prst="bentConnector3">
              <a:avLst>
                <a:gd name="adj1" fmla="val 4985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7" name="_s3080"/>
            <p:cNvCxnSpPr>
              <a:stCxn id="138" idx="0"/>
              <a:endCxn id="139" idx="2"/>
            </p:cNvCxnSpPr>
            <p:nvPr/>
          </p:nvCxnSpPr>
          <p:spPr>
            <a:xfrm flipV="1" rot="16200000">
              <a:off x="3821760" y="5691600"/>
              <a:ext cx="181800" cy="7772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3081"/>
            <p:cNvCxnSpPr>
              <a:stCxn id="141" idx="0"/>
              <a:endCxn id="139" idx="2"/>
            </p:cNvCxnSpPr>
            <p:nvPr/>
          </p:nvCxnSpPr>
          <p:spPr>
            <a:xfrm flipH="1" flipV="1" rot="5400000">
              <a:off x="3046680" y="5692680"/>
              <a:ext cx="181800" cy="7754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2" name="_s3082"/>
            <p:cNvCxnSpPr>
              <a:stCxn id="139" idx="0"/>
              <a:endCxn id="130" idx="2"/>
            </p:cNvCxnSpPr>
            <p:nvPr/>
          </p:nvCxnSpPr>
          <p:spPr>
            <a:xfrm flipV="1" rot="16200000">
              <a:off x="2841120" y="4990680"/>
              <a:ext cx="126360" cy="12412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3" name="_s3083"/>
            <p:cNvCxnSpPr>
              <a:stCxn id="144" idx="0"/>
              <a:endCxn id="130" idx="2"/>
            </p:cNvCxnSpPr>
            <p:nvPr/>
          </p:nvCxnSpPr>
          <p:spPr>
            <a:xfrm flipH="1" flipV="1" rot="5400000">
              <a:off x="1817280" y="5207400"/>
              <a:ext cx="126360" cy="8082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0" name="_s3084"/>
            <p:cNvSpPr/>
            <p:nvPr/>
          </p:nvSpPr>
          <p:spPr>
            <a:xfrm>
              <a:off x="1419480" y="5298120"/>
              <a:ext cx="1728720" cy="2509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Учреждения</a:t>
              </a:r>
              <a:endParaRPr b="0" lang="en-US" sz="1200" spc="-1" strike="noStrike">
                <a:solidFill>
                  <a:srgbClr val="ff9900"/>
                </a:solidFill>
                <a:latin typeface="Arial"/>
              </a:endParaRPr>
            </a:p>
          </p:txBody>
        </p:sp>
        <p:sp>
          <p:nvSpPr>
            <p:cNvPr id="144" name="_s3085"/>
            <p:cNvSpPr/>
            <p:nvPr/>
          </p:nvSpPr>
          <p:spPr>
            <a:xfrm>
              <a:off x="866520" y="5674680"/>
              <a:ext cx="1218960" cy="31500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Частное</a:t>
              </a:r>
              <a:endParaRPr b="0" lang="en-US" sz="1200" spc="-1" strike="noStrike">
                <a:solidFill>
                  <a:srgbClr val="ff9900"/>
                </a:solidFill>
                <a:latin typeface="Arial"/>
              </a:endParaRPr>
            </a:p>
          </p:txBody>
        </p:sp>
        <p:sp>
          <p:nvSpPr>
            <p:cNvPr id="139" name="_s3086"/>
            <p:cNvSpPr/>
            <p:nvPr/>
          </p:nvSpPr>
          <p:spPr>
            <a:xfrm>
              <a:off x="2305800" y="5674680"/>
              <a:ext cx="2437920" cy="315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Государственное или муниципальное</a:t>
              </a:r>
              <a:endParaRPr b="0" lang="en-US" sz="1200" spc="-1" strike="noStrike">
                <a:solidFill>
                  <a:srgbClr val="ff9900"/>
                </a:solidFill>
                <a:latin typeface="Arial"/>
              </a:endParaRPr>
            </a:p>
          </p:txBody>
        </p:sp>
        <p:sp>
          <p:nvSpPr>
            <p:cNvPr id="141" name="_s3087"/>
            <p:cNvSpPr/>
            <p:nvPr/>
          </p:nvSpPr>
          <p:spPr>
            <a:xfrm>
              <a:off x="2085480" y="6171120"/>
              <a:ext cx="1328400" cy="216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Бюджетное (БУ)</a:t>
              </a:r>
              <a:endParaRPr b="0" lang="en-US" sz="1200" spc="-1" strike="noStrike">
                <a:solidFill>
                  <a:srgbClr val="ff9900"/>
                </a:solidFill>
                <a:latin typeface="Arial"/>
              </a:endParaRPr>
            </a:p>
          </p:txBody>
        </p:sp>
        <p:sp>
          <p:nvSpPr>
            <p:cNvPr id="138" name="_s3088"/>
            <p:cNvSpPr/>
            <p:nvPr/>
          </p:nvSpPr>
          <p:spPr>
            <a:xfrm>
              <a:off x="3636000" y="6171120"/>
              <a:ext cx="1330200" cy="21600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Автономное (АУ)</a:t>
              </a:r>
              <a:endParaRPr b="0" lang="en-US" sz="1200" spc="-1" strike="noStrike">
                <a:solidFill>
                  <a:srgbClr val="ff9900"/>
                </a:solidFill>
                <a:latin typeface="Arial"/>
              </a:endParaRPr>
            </a:p>
          </p:txBody>
        </p:sp>
        <p:sp>
          <p:nvSpPr>
            <p:cNvPr id="136" name="_s3089"/>
            <p:cNvSpPr/>
            <p:nvPr/>
          </p:nvSpPr>
          <p:spPr>
            <a:xfrm>
              <a:off x="3524760" y="5298120"/>
              <a:ext cx="775080" cy="25092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АНО</a:t>
              </a:r>
              <a:endParaRPr b="0" lang="en-US" sz="1200" spc="-1" strike="noStrike">
                <a:solidFill>
                  <a:srgbClr val="ff9900"/>
                </a:solidFill>
                <a:latin typeface="Arial"/>
              </a:endParaRPr>
            </a:p>
          </p:txBody>
        </p:sp>
        <p:sp>
          <p:nvSpPr>
            <p:cNvPr id="134" name="_s3090"/>
            <p:cNvSpPr/>
            <p:nvPr/>
          </p:nvSpPr>
          <p:spPr>
            <a:xfrm>
              <a:off x="4412520" y="5298120"/>
              <a:ext cx="774000" cy="25092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Фонды</a:t>
              </a:r>
              <a:endParaRPr b="0" lang="en-US" sz="1200" spc="-1" strike="noStrike">
                <a:solidFill>
                  <a:srgbClr val="ff9900"/>
                </a:solidFill>
                <a:latin typeface="Arial"/>
              </a:endParaRPr>
            </a:p>
          </p:txBody>
        </p:sp>
        <p:sp>
          <p:nvSpPr>
            <p:cNvPr id="132" name="_s3091"/>
            <p:cNvSpPr/>
            <p:nvPr/>
          </p:nvSpPr>
          <p:spPr>
            <a:xfrm>
              <a:off x="5408280" y="5298120"/>
              <a:ext cx="665640" cy="25092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ff9900"/>
                </a:solidFill>
                <a:latin typeface="Arial"/>
              </a:endParaRPr>
            </a:p>
          </p:txBody>
        </p:sp>
        <p:sp>
          <p:nvSpPr>
            <p:cNvPr id="129" name="_s3092"/>
            <p:cNvSpPr/>
            <p:nvPr/>
          </p:nvSpPr>
          <p:spPr>
            <a:xfrm>
              <a:off x="2859120" y="4834080"/>
              <a:ext cx="1730160" cy="338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Некоммерческие организации (НКО)</a:t>
              </a:r>
              <a:endParaRPr b="0" lang="en-US" sz="1200" spc="-1" strike="noStrike">
                <a:solidFill>
                  <a:srgbClr val="ff99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532944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Функциональные возможности</a:t>
            </a:r>
            <a:br>
              <a:rPr sz="24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конфигурации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4000" y="1458720"/>
            <a:ext cx="8424720" cy="53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Учет целевого финансирования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Особенности учета основных средств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Особенности учета НДС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Особенности регламентированной отчетности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Специализированные функции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для образовательных учреждений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Учет расчетов по родительской плате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Учет расчетов за платное обучение студентов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5:32:40Z</dcterms:created>
  <dc:creator/>
  <dc:description/>
  <dc:language>en-US</dc:language>
  <cp:lastModifiedBy>0</cp:lastModifiedBy>
  <dcterms:modified xsi:type="dcterms:W3CDTF">2009-04-02T08:57:38Z</dcterms:modified>
  <cp:revision>320</cp:revision>
  <dc:subject/>
  <dc:title/>
</cp:coreProperties>
</file>